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ECA-D98A-4E5F-9B80-5AFCCD87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7B3-0A0F-4EF7-B7F2-309025FA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638-FC01-4D39-9AAB-40C138AA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25E-A35A-427D-BF7E-7178B1A6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24D-D119-4123-B68A-FB575C4C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6F0-3613-41E5-811B-615B641F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2CD-B0FF-4A9E-B11E-F50261B4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374-F504-4B51-B1F3-100FE67B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5F1-5F42-42A1-BB5A-CBECB14D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A0E-E3B3-40A7-80BC-766E3C3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0DF-94D0-4966-98E8-48126549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5F1-A639-48D5-94E7-16EE7A1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09DD-2881-4AE6-B980-DD77F19A7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72428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iall M. Moy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aculty of Science and Heal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ublin City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85800"/>
            <a:ext cx="8534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AA National Coaching Conference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From Theory to Practic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486400" y="5022720"/>
          <a:ext cx="220968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022720"/>
                    <a:ext cx="220968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374760" y="1530360"/>
          <a:ext cx="8169120" cy="52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530360"/>
                    <a:ext cx="816912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380880" y="304920"/>
            <a:ext cx="76201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oring Opport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 u="sng">
                <a:solidFill>
                  <a:srgbClr val="a50021"/>
                </a:solidFill>
                <a:uFillTx/>
                <a:latin typeface="Arial"/>
              </a:rPr>
              <a:t>&lt;</a:t>
            </a:r>
            <a:r>
              <a:rPr b="1" lang="en-US" sz="3700" spc="-1" strike="noStrike">
                <a:solidFill>
                  <a:srgbClr val="a50021"/>
                </a:solidFill>
                <a:latin typeface="Arial"/>
              </a:rPr>
              <a:t> 3 Passe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35108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1825560"/>
            <a:ext cx="146160" cy="146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91440" y="1752480"/>
            <a:ext cx="116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3 p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2190600"/>
            <a:ext cx="1461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91440" y="2117880"/>
            <a:ext cx="109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3 p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374760" y="1530360"/>
          <a:ext cx="8169120" cy="52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530360"/>
                    <a:ext cx="816912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0880" y="304920"/>
            <a:ext cx="76201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oring Opport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 u="sng">
                <a:solidFill>
                  <a:srgbClr val="a50021"/>
                </a:solidFill>
                <a:uFillTx/>
                <a:latin typeface="Arial"/>
              </a:rPr>
              <a:t>&lt;</a:t>
            </a:r>
            <a:r>
              <a:rPr b="1" lang="en-US" sz="3700" spc="-1" strike="noStrike">
                <a:solidFill>
                  <a:srgbClr val="a50021"/>
                </a:solidFill>
                <a:latin typeface="Arial"/>
              </a:rPr>
              <a:t> 4 Passe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135108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86600" y="1825560"/>
            <a:ext cx="146160" cy="146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91440" y="1752480"/>
            <a:ext cx="116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4 p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2190600"/>
            <a:ext cx="1461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91440" y="2117880"/>
            <a:ext cx="109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 p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2077920"/>
            <a:ext cx="762012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derage GA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What is the best Approach?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1676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33360" indent="-333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have f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rinciple reason cited by boys and girls for participating in school sport and non-school s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401760"/>
            <a:ext cx="87631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ticipation in Sport Among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Determina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44792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562720" y="4309920"/>
          <a:ext cx="2895480" cy="23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309920"/>
                    <a:ext cx="2895480" cy="23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28600" y="2590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476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76212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Lack of fu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lack of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perceived competenc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major reasons cited for drop-out after the age of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350532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ritical task for coaches is to discover ways of promoting enjoyment and enhancing children’s perceived compet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2154240"/>
            <a:ext cx="60962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AA Coaches are Expe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Want Evidence!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320040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0880" y="1752480"/>
            <a:ext cx="60962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udies on Young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GA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layer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Is there any Evidence?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279864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3048120"/>
            <a:ext cx="818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pproaches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formula to insure that all children get equal access, and meaningful playing time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ceased levels of enjoy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creased perceived compet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re ball cont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hysically demanding for all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286000" y="259056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222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ot to start somewhe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a-side vs. 7 a-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401760"/>
            <a:ext cx="60962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Where do we Start?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44792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98240" y="1752480"/>
            <a:ext cx="826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U-14 players have more involvement (in terms of intentional ball contacts) during a 7 a-side than a15 a-side gam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e levels of enjoyment and perceived competence be greater or less in U-14 players during a 7 a-side than a 15 a-side gam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a 7 a-side game be more challenging than an 15 a-side game in terms of the hard the players have to work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401760"/>
            <a:ext cx="60962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Ques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144792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222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B approval and meeting with par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to the Human Performance Laboratory in DCU - H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t, BMI, 5 fat, lung capacity and aerobic fitness leve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asses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mpetitive games (15 a-side and 7 a-side) wh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videota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rate monitors were worn for the duration of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t rate data was continuously recorded and used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hysiological responses during each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 to assess enjoyment levels and perceiv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mpetence was completed following each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304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earch Desig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357200" y="1703520"/>
          <a:ext cx="6651720" cy="50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703520"/>
                    <a:ext cx="665172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80880" y="304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Physiological Characteristic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706320"/>
            <a:ext cx="762012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aelic Foot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Playing Patter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75248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0" y="259056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can we lear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371600" y="5181480"/>
            <a:ext cx="5257800" cy="609840"/>
          </a:xfrm>
          <a:prstGeom prst="parallelogram">
            <a:avLst>
              <a:gd name="adj" fmla="val 21554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2819520"/>
            <a:ext cx="6782040" cy="838080"/>
          </a:xfrm>
          <a:prstGeom prst="parallelogram">
            <a:avLst>
              <a:gd name="adj" fmla="val 202309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5146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60000" y="21178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30 met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143000" y="27428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0032800">
            <a:off x="1065960" y="27428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4met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26680" y="29718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620 m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49528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080" y="46324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0 met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0104200">
            <a:off x="1065960" y="5089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6met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295280" y="51051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82120" y="52578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480 m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04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Dimens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9160" y="18320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a-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0080" y="4419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a-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4114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66"/>
                </a:solidFill>
                <a:latin typeface="Arial"/>
              </a:rPr>
              <a:t>320m</a:t>
            </a:r>
            <a:r>
              <a:rPr b="1" lang="en-GB" sz="20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cc0066"/>
                </a:solidFill>
                <a:latin typeface="Arial"/>
              </a:rPr>
              <a:t>/p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010280" y="3428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102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28600" y="1606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ahoma"/>
              </a:rPr>
              <a:t>Player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366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04920" y="5644800"/>
            <a:ext cx="1218960" cy="686160"/>
            <a:chOff x="304920" y="5644800"/>
            <a:chExt cx="1218960" cy="686160"/>
          </a:xfrm>
        </p:grpSpPr>
        <p:sp>
          <p:nvSpPr>
            <p:cNvPr id="276" name=""/>
            <p:cNvSpPr/>
            <p:nvPr/>
          </p:nvSpPr>
          <p:spPr>
            <a:xfrm>
              <a:off x="304920" y="581184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utco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219320" y="5644800"/>
              <a:ext cx="22860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6178680"/>
              <a:ext cx="22860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80880" y="-763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Analysi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1224000"/>
            <a:ext cx="868680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62120" y="2521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62120" y="41972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455840" y="1355760"/>
            <a:ext cx="7221960" cy="5425200"/>
            <a:chOff x="1455840" y="1355760"/>
            <a:chExt cx="7221960" cy="5425200"/>
          </a:xfrm>
        </p:grpSpPr>
        <p:grpSp>
          <p:nvGrpSpPr>
            <p:cNvPr id="284" name=""/>
            <p:cNvGrpSpPr/>
            <p:nvPr/>
          </p:nvGrpSpPr>
          <p:grpSpPr>
            <a:xfrm>
              <a:off x="1455840" y="1355760"/>
              <a:ext cx="7221960" cy="5425200"/>
              <a:chOff x="1455840" y="1355760"/>
              <a:chExt cx="7221960" cy="542520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1455840" y="1355760"/>
                <a:ext cx="3611160" cy="774720"/>
                <a:chOff x="1455840" y="1355760"/>
                <a:chExt cx="3611160" cy="7747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559880" y="1355760"/>
                  <a:ext cx="340308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oh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455840" y="1355760"/>
                  <a:ext cx="361116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067360" y="1355760"/>
                <a:ext cx="3610440" cy="774720"/>
                <a:chOff x="5067360" y="1355760"/>
                <a:chExt cx="3610440" cy="7747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170680" y="1355760"/>
                  <a:ext cx="340272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067360" y="1355760"/>
                  <a:ext cx="361044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455840" y="2130840"/>
                <a:ext cx="1803960" cy="774360"/>
                <a:chOff x="1455840" y="2130840"/>
                <a:chExt cx="1803960" cy="7743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559880" y="2130840"/>
                  <a:ext cx="159588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455840" y="2130840"/>
                  <a:ext cx="1803960" cy="7743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260160" y="2130840"/>
                <a:ext cx="1806840" cy="774360"/>
                <a:chOff x="3260160" y="2130840"/>
                <a:chExt cx="1806840" cy="7743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364200" y="2130840"/>
                  <a:ext cx="159876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ndpas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260160" y="2130840"/>
                  <a:ext cx="1806840" cy="7743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067360" y="2130840"/>
                <a:ext cx="1803960" cy="774360"/>
                <a:chOff x="5067360" y="2130840"/>
                <a:chExt cx="1803960" cy="7743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70680" y="2130840"/>
                  <a:ext cx="159624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ootpas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067360" y="2130840"/>
                  <a:ext cx="1803960" cy="7743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871680" y="2130840"/>
                <a:ext cx="1806120" cy="774360"/>
                <a:chOff x="6871680" y="2130840"/>
                <a:chExt cx="1806120" cy="7743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975000" y="2130840"/>
                  <a:ext cx="1598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un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871680" y="2130840"/>
                  <a:ext cx="1806120" cy="7743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1455840" y="2905560"/>
                <a:ext cx="1803960" cy="774720"/>
                <a:chOff x="1455840" y="2905560"/>
                <a:chExt cx="1803960" cy="7747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559880" y="2905560"/>
                  <a:ext cx="159588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ick-u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455840" y="2905560"/>
                  <a:ext cx="180396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260160" y="2905560"/>
                <a:ext cx="1806840" cy="774720"/>
                <a:chOff x="3260160" y="2905560"/>
                <a:chExt cx="1806840" cy="7747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364200" y="2905560"/>
                  <a:ext cx="159876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igh catch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260160" y="2905560"/>
                  <a:ext cx="180684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067360" y="2905560"/>
                <a:ext cx="1803960" cy="774720"/>
                <a:chOff x="5067360" y="2905560"/>
                <a:chExt cx="1803960" cy="7747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170680" y="2905560"/>
                  <a:ext cx="159624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hest catch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067360" y="2905560"/>
                  <a:ext cx="180396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871680" y="2905560"/>
                <a:ext cx="1806120" cy="774720"/>
                <a:chOff x="6871680" y="2905560"/>
                <a:chExt cx="1806120" cy="7747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975000" y="2905560"/>
                  <a:ext cx="159840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871680" y="2905560"/>
                  <a:ext cx="180612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455840" y="3681000"/>
                <a:ext cx="1803960" cy="774720"/>
                <a:chOff x="1455840" y="3681000"/>
                <a:chExt cx="1803960" cy="7747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559880" y="3681000"/>
                  <a:ext cx="159588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455840" y="3681000"/>
                  <a:ext cx="180396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260160" y="3681000"/>
                <a:ext cx="1806840" cy="774720"/>
                <a:chOff x="3260160" y="3681000"/>
                <a:chExt cx="1806840" cy="774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364200" y="3681000"/>
                  <a:ext cx="159876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260160" y="3681000"/>
                  <a:ext cx="180684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5067360" y="3681000"/>
                <a:ext cx="1803960" cy="774720"/>
                <a:chOff x="5067360" y="3681000"/>
                <a:chExt cx="1803960" cy="774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170680" y="3681000"/>
                  <a:ext cx="159624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tercept foo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067360" y="3681000"/>
                  <a:ext cx="180396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871680" y="3681000"/>
                <a:ext cx="1806120" cy="774720"/>
                <a:chOff x="6871680" y="3681000"/>
                <a:chExt cx="1806120" cy="774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975000" y="3681000"/>
                  <a:ext cx="159840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tercept hand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871680" y="3681000"/>
                  <a:ext cx="180612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455840" y="4456080"/>
                <a:ext cx="1803960" cy="774720"/>
                <a:chOff x="1455840" y="4456080"/>
                <a:chExt cx="1803960" cy="7747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1559880" y="4456080"/>
                  <a:ext cx="159588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o ho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55840" y="4456080"/>
                  <a:ext cx="180396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3260160" y="4456080"/>
                <a:ext cx="1806840" cy="774720"/>
                <a:chOff x="3260160" y="4456080"/>
                <a:chExt cx="1806840" cy="7747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364200" y="4456080"/>
                  <a:ext cx="159876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260160" y="4456080"/>
                  <a:ext cx="180684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067360" y="4456080"/>
                <a:ext cx="1803960" cy="774720"/>
                <a:chOff x="5067360" y="4456080"/>
                <a:chExt cx="1803960" cy="7747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170680" y="4456080"/>
                  <a:ext cx="159624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067360" y="4456080"/>
                  <a:ext cx="180396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871680" y="4456080"/>
                <a:ext cx="1806120" cy="774720"/>
                <a:chOff x="6871680" y="4456080"/>
                <a:chExt cx="1806120" cy="7747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975000" y="4456080"/>
                  <a:ext cx="159840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sted Sho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871680" y="4456080"/>
                  <a:ext cx="180612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1455840" y="5231520"/>
                <a:ext cx="1803960" cy="774360"/>
                <a:chOff x="1455840" y="5231520"/>
                <a:chExt cx="1803960" cy="7743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559880" y="5231520"/>
                  <a:ext cx="159588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n Clea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455840" y="5231520"/>
                  <a:ext cx="1803960" cy="7743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260160" y="5231520"/>
                <a:ext cx="1806840" cy="774360"/>
                <a:chOff x="3260160" y="5231520"/>
                <a:chExt cx="1806840" cy="7743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364200" y="5231520"/>
                  <a:ext cx="159876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reak Wo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60160" y="5231520"/>
                  <a:ext cx="1806840" cy="7743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067360" y="5231520"/>
                <a:ext cx="1803960" cy="774360"/>
                <a:chOff x="5067360" y="5231520"/>
                <a:chExt cx="1803960" cy="7743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170680" y="5231520"/>
                  <a:ext cx="159624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rnov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067360" y="5231520"/>
                  <a:ext cx="1803960" cy="7743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871680" y="5231520"/>
                <a:ext cx="1806120" cy="774360"/>
                <a:chOff x="6871680" y="5231520"/>
                <a:chExt cx="1806120" cy="7743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975000" y="5231520"/>
                  <a:ext cx="1598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reak Los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871680" y="5231520"/>
                  <a:ext cx="1806120" cy="7743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455840" y="6006240"/>
                <a:ext cx="1803960" cy="774720"/>
                <a:chOff x="1455840" y="6006240"/>
                <a:chExt cx="1803960" cy="7747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559880" y="6006240"/>
                  <a:ext cx="159588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55840" y="6006240"/>
                  <a:ext cx="180396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3260160" y="6006240"/>
                <a:ext cx="1806840" cy="774720"/>
                <a:chOff x="3260160" y="6006240"/>
                <a:chExt cx="1806840" cy="7747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364200" y="6006240"/>
                  <a:ext cx="159876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260160" y="6006240"/>
                  <a:ext cx="180684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067360" y="6006240"/>
                <a:ext cx="1803960" cy="774720"/>
                <a:chOff x="5067360" y="6006240"/>
                <a:chExt cx="1803960" cy="7747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170680" y="6006240"/>
                  <a:ext cx="159624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067360" y="6006240"/>
                  <a:ext cx="180396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871680" y="6006240"/>
                <a:ext cx="1806120" cy="774720"/>
                <a:chOff x="6871680" y="6006240"/>
                <a:chExt cx="1806120" cy="7747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975000" y="6006240"/>
                  <a:ext cx="1598400" cy="7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71680" y="6006240"/>
                  <a:ext cx="1806120" cy="7747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" name=""/>
            <p:cNvSpPr/>
            <p:nvPr/>
          </p:nvSpPr>
          <p:spPr>
            <a:xfrm>
              <a:off x="5181480" y="1606680"/>
              <a:ext cx="33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Mick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23880" y="236844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istpa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29000" y="4654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Solo t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9520" y="3892680"/>
              <a:ext cx="11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l co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28640" y="389268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l w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10960" y="62546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87840" y="6254640"/>
              <a:ext cx="12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chnic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64720" y="62546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81200" y="31305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c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81480" y="4654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Shot 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81800" y="617868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181480" y="1454040"/>
            <a:ext cx="3429000" cy="609840"/>
            <a:chOff x="5181480" y="1454040"/>
            <a:chExt cx="3429000" cy="609840"/>
          </a:xfrm>
        </p:grpSpPr>
        <p:sp>
          <p:nvSpPr>
            <p:cNvPr id="375" name=""/>
            <p:cNvSpPr/>
            <p:nvPr/>
          </p:nvSpPr>
          <p:spPr>
            <a:xfrm>
              <a:off x="5181480" y="1454040"/>
              <a:ext cx="3429000" cy="6098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7800" y="153036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ffff"/>
                  </a:solidFill>
                  <a:latin typeface="Arial"/>
                </a:rPr>
                <a:t>Mick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105520" y="4502160"/>
            <a:ext cx="167616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  <a:ea typeface="Arial"/>
              </a:rPr>
              <a:t>Shot Sc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3880" y="6102360"/>
            <a:ext cx="1676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  <a:ea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0880" y="243684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Result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3579840"/>
            <a:ext cx="868680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880" y="0"/>
            <a:ext cx="8382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art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Respons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90720" y="1981080"/>
            <a:ext cx="3189240" cy="4402080"/>
            <a:chOff x="990720" y="1981080"/>
            <a:chExt cx="3189240" cy="4402080"/>
          </a:xfrm>
        </p:grpSpPr>
        <p:graphicFrame>
          <p:nvGraphicFramePr>
            <p:cNvPr id="384" name=""/>
            <p:cNvGraphicFramePr/>
            <p:nvPr/>
          </p:nvGraphicFramePr>
          <p:xfrm>
            <a:off x="990720" y="2314440"/>
            <a:ext cx="3189240" cy="406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314440"/>
                      <a:ext cx="3189240" cy="406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6" name=""/>
            <p:cNvSpPr/>
            <p:nvPr/>
          </p:nvSpPr>
          <p:spPr>
            <a:xfrm>
              <a:off x="3103560" y="28954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86000" y="19810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art R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040360" y="1981080"/>
            <a:ext cx="3189240" cy="4419720"/>
            <a:chOff x="5040360" y="1981080"/>
            <a:chExt cx="3189240" cy="4419720"/>
          </a:xfrm>
        </p:grpSpPr>
        <p:graphicFrame>
          <p:nvGraphicFramePr>
            <p:cNvPr id="389" name=""/>
            <p:cNvGraphicFramePr/>
            <p:nvPr/>
          </p:nvGraphicFramePr>
          <p:xfrm>
            <a:off x="5040360" y="2332080"/>
            <a:ext cx="3189240" cy="406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40360" y="2332080"/>
                      <a:ext cx="3189240" cy="406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1" name=""/>
            <p:cNvSpPr/>
            <p:nvPr/>
          </p:nvSpPr>
          <p:spPr>
            <a:xfrm>
              <a:off x="7164360" y="320040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72200" y="19810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% Max 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0880" y="0"/>
            <a:ext cx="8382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tch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Chest, Low and High Catch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838080" y="1295280"/>
          <a:ext cx="769644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6964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7086600" y="50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-a-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5424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a-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5448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452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304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tch Analy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Scoring Attempt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1447920"/>
            <a:ext cx="868680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04920" y="1295280"/>
          <a:ext cx="7696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696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7086600" y="525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-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29400" y="5638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a-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15680" y="6288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57800" y="1981080"/>
            <a:ext cx="25146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5398920" y="2286000"/>
            <a:ext cx="2331360" cy="2316960"/>
            <a:chOff x="5398920" y="2286000"/>
            <a:chExt cx="2331360" cy="2316960"/>
          </a:xfrm>
        </p:grpSpPr>
        <p:sp>
          <p:nvSpPr>
            <p:cNvPr id="411" name=""/>
            <p:cNvSpPr/>
            <p:nvPr/>
          </p:nvSpPr>
          <p:spPr>
            <a:xfrm>
              <a:off x="5830920" y="4444920"/>
              <a:ext cx="1541520" cy="76320"/>
            </a:xfrm>
            <a:custGeom>
              <a:avLst/>
              <a:gdLst/>
              <a:ahLst/>
              <a:rect l="l" t="t" r="r" b="b"/>
              <a:pathLst>
                <a:path w="971" h="48">
                  <a:moveTo>
                    <a:pt x="0" y="48"/>
                  </a:moveTo>
                  <a:lnTo>
                    <a:pt x="66" y="0"/>
                  </a:lnTo>
                  <a:lnTo>
                    <a:pt x="971" y="0"/>
                  </a:lnTo>
                  <a:lnTo>
                    <a:pt x="905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30920" y="2295360"/>
              <a:ext cx="104760" cy="2225880"/>
            </a:xfrm>
            <a:custGeom>
              <a:avLst/>
              <a:gdLst/>
              <a:ahLst/>
              <a:rect l="l" t="t" r="r" b="b"/>
              <a:pathLst>
                <a:path w="66" h="1402">
                  <a:moveTo>
                    <a:pt x="0" y="1402"/>
                  </a:moveTo>
                  <a:lnTo>
                    <a:pt x="0" y="48"/>
                  </a:lnTo>
                  <a:lnTo>
                    <a:pt x="66" y="0"/>
                  </a:lnTo>
                  <a:lnTo>
                    <a:pt x="66" y="1354"/>
                  </a:lnTo>
                  <a:lnTo>
                    <a:pt x="0" y="140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35680" y="2295360"/>
              <a:ext cx="1436760" cy="21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30920" y="4444920"/>
              <a:ext cx="1541520" cy="76320"/>
            </a:xfrm>
            <a:custGeom>
              <a:avLst/>
              <a:gdLst/>
              <a:ahLst/>
              <a:rect l="l" t="t" r="r" b="b"/>
              <a:pathLst>
                <a:path w="162" h="8">
                  <a:moveTo>
                    <a:pt x="0" y="8"/>
                  </a:moveTo>
                  <a:lnTo>
                    <a:pt x="11" y="0"/>
                  </a:lnTo>
                  <a:lnTo>
                    <a:pt x="1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30920" y="4008240"/>
              <a:ext cx="1541520" cy="85680"/>
            </a:xfrm>
            <a:custGeom>
              <a:avLst/>
              <a:gdLst/>
              <a:ahLst/>
              <a:rect l="l" t="t" r="r" b="b"/>
              <a:pathLst>
                <a:path w="162" h="9">
                  <a:moveTo>
                    <a:pt x="0" y="9"/>
                  </a:moveTo>
                  <a:lnTo>
                    <a:pt x="11" y="0"/>
                  </a:lnTo>
                  <a:lnTo>
                    <a:pt x="1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30920" y="3579840"/>
              <a:ext cx="1541520" cy="85680"/>
            </a:xfrm>
            <a:custGeom>
              <a:avLst/>
              <a:gdLst/>
              <a:ahLst/>
              <a:rect l="l" t="t" r="r" b="b"/>
              <a:pathLst>
                <a:path w="162" h="9">
                  <a:moveTo>
                    <a:pt x="0" y="9"/>
                  </a:moveTo>
                  <a:lnTo>
                    <a:pt x="11" y="0"/>
                  </a:lnTo>
                  <a:lnTo>
                    <a:pt x="1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30920" y="3151080"/>
              <a:ext cx="1541520" cy="85680"/>
            </a:xfrm>
            <a:custGeom>
              <a:avLst/>
              <a:gdLst/>
              <a:ahLst/>
              <a:rect l="l" t="t" r="r" b="b"/>
              <a:pathLst>
                <a:path w="162" h="9">
                  <a:moveTo>
                    <a:pt x="0" y="9"/>
                  </a:moveTo>
                  <a:lnTo>
                    <a:pt x="11" y="0"/>
                  </a:lnTo>
                  <a:lnTo>
                    <a:pt x="1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30920" y="2722320"/>
              <a:ext cx="1541520" cy="85680"/>
            </a:xfrm>
            <a:custGeom>
              <a:avLst/>
              <a:gdLst/>
              <a:ahLst/>
              <a:rect l="l" t="t" r="r" b="b"/>
              <a:pathLst>
                <a:path w="162" h="9">
                  <a:moveTo>
                    <a:pt x="0" y="9"/>
                  </a:moveTo>
                  <a:lnTo>
                    <a:pt x="11" y="0"/>
                  </a:lnTo>
                  <a:lnTo>
                    <a:pt x="1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30920" y="2295360"/>
              <a:ext cx="1541520" cy="76320"/>
            </a:xfrm>
            <a:custGeom>
              <a:avLst/>
              <a:gdLst/>
              <a:ahLst/>
              <a:rect l="l" t="t" r="r" b="b"/>
              <a:pathLst>
                <a:path w="162" h="8">
                  <a:moveTo>
                    <a:pt x="0" y="8"/>
                  </a:moveTo>
                  <a:lnTo>
                    <a:pt x="11" y="0"/>
                  </a:lnTo>
                  <a:lnTo>
                    <a:pt x="1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30920" y="4444920"/>
              <a:ext cx="1541520" cy="76320"/>
            </a:xfrm>
            <a:custGeom>
              <a:avLst/>
              <a:gdLst/>
              <a:ahLst/>
              <a:rect l="l" t="t" r="r" b="b"/>
              <a:pathLst>
                <a:path w="971" h="48">
                  <a:moveTo>
                    <a:pt x="971" y="0"/>
                  </a:moveTo>
                  <a:lnTo>
                    <a:pt x="905" y="48"/>
                  </a:lnTo>
                  <a:lnTo>
                    <a:pt x="0" y="48"/>
                  </a:lnTo>
                  <a:lnTo>
                    <a:pt x="66" y="0"/>
                  </a:lnTo>
                  <a:lnTo>
                    <a:pt x="97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30920" y="2295360"/>
              <a:ext cx="104760" cy="2225880"/>
            </a:xfrm>
            <a:custGeom>
              <a:avLst/>
              <a:gdLst/>
              <a:ahLst/>
              <a:rect l="l" t="t" r="r" b="b"/>
              <a:pathLst>
                <a:path w="66" h="1402">
                  <a:moveTo>
                    <a:pt x="0" y="1402"/>
                  </a:moveTo>
                  <a:lnTo>
                    <a:pt x="0" y="48"/>
                  </a:lnTo>
                  <a:lnTo>
                    <a:pt x="66" y="0"/>
                  </a:lnTo>
                  <a:lnTo>
                    <a:pt x="66" y="1354"/>
                  </a:lnTo>
                  <a:lnTo>
                    <a:pt x="0" y="140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35680" y="2295360"/>
              <a:ext cx="1436760" cy="214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91440" y="2400120"/>
              <a:ext cx="104760" cy="2121120"/>
            </a:xfrm>
            <a:custGeom>
              <a:avLst/>
              <a:gdLst/>
              <a:ahLst/>
              <a:rect l="l" t="t" r="r" b="b"/>
              <a:pathLst>
                <a:path w="66" h="1336">
                  <a:moveTo>
                    <a:pt x="0" y="1336"/>
                  </a:moveTo>
                  <a:lnTo>
                    <a:pt x="0" y="54"/>
                  </a:lnTo>
                  <a:lnTo>
                    <a:pt x="66" y="0"/>
                  </a:lnTo>
                  <a:lnTo>
                    <a:pt x="66" y="1288"/>
                  </a:lnTo>
                  <a:lnTo>
                    <a:pt x="0" y="1336"/>
                  </a:lnTo>
                  <a:close/>
                </a:path>
              </a:pathLst>
            </a:custGeom>
            <a:solidFill>
              <a:srgbClr val="006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68880" y="2485800"/>
              <a:ext cx="322560" cy="2035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68880" y="2400120"/>
              <a:ext cx="427320" cy="85680"/>
            </a:xfrm>
            <a:custGeom>
              <a:avLst/>
              <a:gdLst/>
              <a:ahLst/>
              <a:rect l="l" t="t" r="r" b="b"/>
              <a:pathLst>
                <a:path w="269" h="54">
                  <a:moveTo>
                    <a:pt x="203" y="54"/>
                  </a:moveTo>
                  <a:lnTo>
                    <a:pt x="269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03" y="54"/>
                  </a:lnTo>
                  <a:close/>
                </a:path>
              </a:pathLst>
            </a:custGeom>
            <a:solidFill>
              <a:srgbClr val="009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05720" y="3151080"/>
              <a:ext cx="104760" cy="1370160"/>
            </a:xfrm>
            <a:custGeom>
              <a:avLst/>
              <a:gdLst/>
              <a:ahLst/>
              <a:rect l="l" t="t" r="r" b="b"/>
              <a:pathLst>
                <a:path w="66" h="863">
                  <a:moveTo>
                    <a:pt x="0" y="863"/>
                  </a:moveTo>
                  <a:lnTo>
                    <a:pt x="0" y="54"/>
                  </a:lnTo>
                  <a:lnTo>
                    <a:pt x="66" y="0"/>
                  </a:lnTo>
                  <a:lnTo>
                    <a:pt x="66" y="815"/>
                  </a:lnTo>
                  <a:lnTo>
                    <a:pt x="0" y="863"/>
                  </a:lnTo>
                  <a:close/>
                </a:path>
              </a:pathLst>
            </a:custGeom>
            <a:solidFill>
              <a:srgbClr val="1a1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91440" y="3236760"/>
              <a:ext cx="314280" cy="128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1440" y="3151080"/>
              <a:ext cx="419040" cy="85680"/>
            </a:xfrm>
            <a:custGeom>
              <a:avLst/>
              <a:gdLst/>
              <a:ahLst/>
              <a:rect l="l" t="t" r="r" b="b"/>
              <a:pathLst>
                <a:path w="264" h="54">
                  <a:moveTo>
                    <a:pt x="198" y="54"/>
                  </a:moveTo>
                  <a:lnTo>
                    <a:pt x="264" y="0"/>
                  </a:lnTo>
                  <a:lnTo>
                    <a:pt x="66" y="0"/>
                  </a:lnTo>
                  <a:lnTo>
                    <a:pt x="0" y="54"/>
                  </a:lnTo>
                  <a:lnTo>
                    <a:pt x="198" y="54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20000" y="4122720"/>
              <a:ext cx="114120" cy="398520"/>
            </a:xfrm>
            <a:custGeom>
              <a:avLst/>
              <a:gdLst/>
              <a:ahLst/>
              <a:rect l="l" t="t" r="r" b="b"/>
              <a:pathLst>
                <a:path w="72" h="251">
                  <a:moveTo>
                    <a:pt x="0" y="251"/>
                  </a:moveTo>
                  <a:lnTo>
                    <a:pt x="0" y="48"/>
                  </a:lnTo>
                  <a:lnTo>
                    <a:pt x="72" y="0"/>
                  </a:lnTo>
                  <a:lnTo>
                    <a:pt x="72" y="203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05720" y="4198680"/>
              <a:ext cx="314280" cy="32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5720" y="4122720"/>
              <a:ext cx="428400" cy="75960"/>
            </a:xfrm>
            <a:custGeom>
              <a:avLst/>
              <a:gdLst/>
              <a:ahLst/>
              <a:rect l="l" t="t" r="r" b="b"/>
              <a:pathLst>
                <a:path w="270" h="48">
                  <a:moveTo>
                    <a:pt x="198" y="48"/>
                  </a:moveTo>
                  <a:lnTo>
                    <a:pt x="270" y="0"/>
                  </a:lnTo>
                  <a:lnTo>
                    <a:pt x="66" y="0"/>
                  </a:lnTo>
                  <a:lnTo>
                    <a:pt x="0" y="48"/>
                  </a:lnTo>
                  <a:lnTo>
                    <a:pt x="198" y="48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133680" y="25905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95840" y="3332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00400" y="4255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830920" y="2371320"/>
              <a:ext cx="1440" cy="21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802120" y="452124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5802120" y="4093920"/>
              <a:ext cx="28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5802120" y="366552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802120" y="323676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802120" y="2808000"/>
              <a:ext cx="28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802120" y="2371680"/>
              <a:ext cx="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06720" y="4435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06720" y="4008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06720" y="3579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30400" y="31510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30400" y="27223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30400" y="22860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6200000">
              <a:off x="5235480" y="336528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30920" y="4521240"/>
              <a:ext cx="1436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30920" y="4521240"/>
              <a:ext cx="1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67680" y="4521240"/>
              <a:ext cx="1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15240" y="2428920"/>
              <a:ext cx="75960" cy="75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19640" y="23907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7 a-si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15240" y="2619360"/>
              <a:ext cx="75960" cy="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19280" y="2579400"/>
              <a:ext cx="52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5 a-si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15240" y="2817720"/>
              <a:ext cx="7596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19280" y="2779560"/>
              <a:ext cx="71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5 a-side (6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28780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35080" y="282600"/>
            <a:ext cx="8673840" cy="629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35080" y="282600"/>
            <a:ext cx="8673840" cy="629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98240" y="1752480"/>
            <a:ext cx="826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a greater number of catches, passes, pick-ups and scoring attempts in the 7 a-side than a 15 a-side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enjoyment and perceived competence were higher during the 7 a-side than the 15 a-side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yers worked harder during the 7 a-side than the 15 a-side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401760"/>
            <a:ext cx="60962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280" y="144792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80880" y="1239840"/>
            <a:ext cx="83059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Underage Coaching - Specialization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2280" y="228600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1600200"/>
          <a:ext cx="5029200" cy="33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191120" y="2666880"/>
          <a:ext cx="533376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666880"/>
                    <a:ext cx="53337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52480" y="281952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cc"/>
                </a:solidFill>
                <a:latin typeface="Arial"/>
              </a:rPr>
              <a:t>4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01760"/>
            <a:ext cx="76201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Total, Personal and Techni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44792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76920" y="1523880"/>
          <a:ext cx="5333760" cy="35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523880"/>
                    <a:ext cx="533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" name=""/>
          <p:cNvGrpSpPr/>
          <p:nvPr/>
        </p:nvGrpSpPr>
        <p:grpSpPr>
          <a:xfrm>
            <a:off x="7086600" y="5726160"/>
            <a:ext cx="1485360" cy="752760"/>
            <a:chOff x="7086600" y="5726160"/>
            <a:chExt cx="1485360" cy="752760"/>
          </a:xfrm>
        </p:grpSpPr>
        <p:sp>
          <p:nvSpPr>
            <p:cNvPr id="58" name=""/>
            <p:cNvSpPr/>
            <p:nvPr/>
          </p:nvSpPr>
          <p:spPr>
            <a:xfrm>
              <a:off x="7086600" y="5791320"/>
              <a:ext cx="228600" cy="2286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9720" y="572616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Perso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86600" y="6145200"/>
              <a:ext cx="2286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00080" y="608004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Techn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057400" y="3505320"/>
          <a:ext cx="5334120" cy="35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505320"/>
                    <a:ext cx="53341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6707160" y="14590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rst Ha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80320" y="3429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cond Ha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1447920"/>
          <a:ext cx="3124080" cy="32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447920"/>
                    <a:ext cx="3124080" cy="32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371600" y="2787480"/>
            <a:ext cx="48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3333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3333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7160" y="2754360"/>
            <a:ext cx="48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3333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3333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52280"/>
            <a:ext cx="762012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First and Second Half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119844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92280" y="1486080"/>
          <a:ext cx="7650000" cy="55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486080"/>
                    <a:ext cx="7650000" cy="55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80880" y="304920"/>
            <a:ext cx="76201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ck-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Outcom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35108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65400" y="1930320"/>
            <a:ext cx="690480" cy="424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47800" y="4330800"/>
            <a:ext cx="698400" cy="1846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38480" y="3776760"/>
            <a:ext cx="689040" cy="2400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28680" y="1747800"/>
            <a:ext cx="1800" cy="44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28600" y="6176880"/>
            <a:ext cx="10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28600" y="5440320"/>
            <a:ext cx="10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28600" y="470376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28600" y="39672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28600" y="3220920"/>
            <a:ext cx="10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28600" y="2484360"/>
            <a:ext cx="10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28600" y="1747800"/>
            <a:ext cx="10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28680" y="6176880"/>
            <a:ext cx="6649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85960" y="5994360"/>
            <a:ext cx="177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5960" y="5257800"/>
            <a:ext cx="177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5960" y="4521240"/>
            <a:ext cx="177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4960" y="3784680"/>
            <a:ext cx="354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960" y="3040200"/>
            <a:ext cx="354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4960" y="2303640"/>
            <a:ext cx="354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4960" y="1566720"/>
            <a:ext cx="354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2800" y="63849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99160" y="5621400"/>
            <a:ext cx="702000" cy="1038240"/>
            <a:chOff x="5699160" y="5621400"/>
            <a:chExt cx="702000" cy="1038240"/>
          </a:xfrm>
        </p:grpSpPr>
        <p:sp>
          <p:nvSpPr>
            <p:cNvPr id="97" name=""/>
            <p:cNvSpPr/>
            <p:nvPr/>
          </p:nvSpPr>
          <p:spPr>
            <a:xfrm>
              <a:off x="5699160" y="5621400"/>
              <a:ext cx="690480" cy="555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0960" y="638496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651720" y="2557440"/>
            <a:ext cx="145800" cy="146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19920" y="2503440"/>
            <a:ext cx="51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1720" y="2894040"/>
            <a:ext cx="145800" cy="146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19920" y="2840040"/>
            <a:ext cx="59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51720" y="3230640"/>
            <a:ext cx="145800" cy="145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22440" y="317664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51720" y="3567240"/>
            <a:ext cx="136440" cy="1364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22080" y="3511440"/>
            <a:ext cx="57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7800" y="205740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cc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cc"/>
                </a:solidFill>
                <a:latin typeface="Arial"/>
              </a:rPr>
              <a:t>5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7760" y="449568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8160" y="38862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81560" y="3040200"/>
            <a:ext cx="1663560" cy="3619440"/>
            <a:chOff x="3481560" y="3040200"/>
            <a:chExt cx="1663560" cy="3619440"/>
          </a:xfrm>
        </p:grpSpPr>
        <p:sp>
          <p:nvSpPr>
            <p:cNvPr id="111" name=""/>
            <p:cNvSpPr/>
            <p:nvPr/>
          </p:nvSpPr>
          <p:spPr>
            <a:xfrm>
              <a:off x="3481560" y="3040200"/>
              <a:ext cx="690480" cy="3136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3960" y="5257800"/>
              <a:ext cx="698400" cy="919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54640" y="3967200"/>
              <a:ext cx="690480" cy="2209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71120" y="6384960"/>
              <a:ext cx="48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07480" y="3225960"/>
              <a:ext cx="63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ffcc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ffcc"/>
                  </a:solidFill>
                  <a:latin typeface="Arial"/>
                </a:rPr>
                <a:t>4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4680" y="5257800"/>
              <a:ext cx="58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97840" y="4038480"/>
              <a:ext cx="58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28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80880" y="304920"/>
            <a:ext cx="76201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ck-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a50021"/>
                </a:solidFill>
                <a:latin typeface="Arial"/>
              </a:rPr>
              <a:t>Outcom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35108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533520" y="1297080"/>
          <a:ext cx="768492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7080"/>
                    <a:ext cx="76849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746748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Perc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5775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u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04920"/>
            <a:ext cx="76201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oring Opport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a50021"/>
                </a:solidFill>
                <a:latin typeface="Arial"/>
              </a:rPr>
              <a:t>Open Play vs. Free Kick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35108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8840" y="5334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ccffff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32440" y="5226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800000"/>
                </a:solidFill>
                <a:latin typeface="Arial"/>
              </a:rPr>
              <a:t>2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9760" y="571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171360" y="3863160"/>
            <a:ext cx="16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90760" y="5805360"/>
            <a:ext cx="7202520" cy="427320"/>
          </a:xfrm>
          <a:custGeom>
            <a:avLst/>
            <a:gdLst/>
            <a:ahLst/>
            <a:rect l="l" t="t" r="r" b="b"/>
            <a:pathLst>
              <a:path w="4537" h="269">
                <a:moveTo>
                  <a:pt x="0" y="269"/>
                </a:moveTo>
                <a:lnTo>
                  <a:pt x="333" y="0"/>
                </a:lnTo>
                <a:lnTo>
                  <a:pt x="4537" y="0"/>
                </a:lnTo>
                <a:lnTo>
                  <a:pt x="4205" y="269"/>
                </a:lnTo>
                <a:lnTo>
                  <a:pt x="0" y="26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90760" y="1995480"/>
            <a:ext cx="528480" cy="4237200"/>
          </a:xfrm>
          <a:custGeom>
            <a:avLst/>
            <a:gdLst/>
            <a:ahLst/>
            <a:rect l="l" t="t" r="r" b="b"/>
            <a:pathLst>
              <a:path w="333" h="2669">
                <a:moveTo>
                  <a:pt x="0" y="2669"/>
                </a:moveTo>
                <a:lnTo>
                  <a:pt x="0" y="269"/>
                </a:lnTo>
                <a:lnTo>
                  <a:pt x="333" y="0"/>
                </a:lnTo>
                <a:lnTo>
                  <a:pt x="333" y="2400"/>
                </a:lnTo>
                <a:lnTo>
                  <a:pt x="0" y="26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19240" y="1995480"/>
            <a:ext cx="6674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90760" y="5805360"/>
            <a:ext cx="7202520" cy="427320"/>
          </a:xfrm>
          <a:custGeom>
            <a:avLst/>
            <a:gdLst/>
            <a:ahLst/>
            <a:rect l="l" t="t" r="r" b="b"/>
            <a:pathLst>
              <a:path w="792" h="47">
                <a:moveTo>
                  <a:pt x="0" y="47"/>
                </a:moveTo>
                <a:lnTo>
                  <a:pt x="58" y="0"/>
                </a:lnTo>
                <a:lnTo>
                  <a:pt x="7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90760" y="4851360"/>
            <a:ext cx="7202520" cy="426960"/>
          </a:xfrm>
          <a:custGeom>
            <a:avLst/>
            <a:gdLst/>
            <a:ahLst/>
            <a:rect l="l" t="t" r="r" b="b"/>
            <a:pathLst>
              <a:path w="792" h="47">
                <a:moveTo>
                  <a:pt x="0" y="47"/>
                </a:moveTo>
                <a:lnTo>
                  <a:pt x="58" y="0"/>
                </a:lnTo>
                <a:lnTo>
                  <a:pt x="7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90760" y="3905280"/>
            <a:ext cx="7202520" cy="417600"/>
          </a:xfrm>
          <a:custGeom>
            <a:avLst/>
            <a:gdLst/>
            <a:ahLst/>
            <a:rect l="l" t="t" r="r" b="b"/>
            <a:pathLst>
              <a:path w="792" h="46">
                <a:moveTo>
                  <a:pt x="0" y="46"/>
                </a:moveTo>
                <a:lnTo>
                  <a:pt x="58" y="0"/>
                </a:lnTo>
                <a:lnTo>
                  <a:pt x="7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90760" y="2951280"/>
            <a:ext cx="7202520" cy="426960"/>
          </a:xfrm>
          <a:custGeom>
            <a:avLst/>
            <a:gdLst/>
            <a:ahLst/>
            <a:rect l="l" t="t" r="r" b="b"/>
            <a:pathLst>
              <a:path w="792" h="47">
                <a:moveTo>
                  <a:pt x="0" y="47"/>
                </a:moveTo>
                <a:lnTo>
                  <a:pt x="58" y="0"/>
                </a:lnTo>
                <a:lnTo>
                  <a:pt x="7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90760" y="1995480"/>
            <a:ext cx="7202520" cy="426960"/>
          </a:xfrm>
          <a:custGeom>
            <a:avLst/>
            <a:gdLst/>
            <a:ahLst/>
            <a:rect l="l" t="t" r="r" b="b"/>
            <a:pathLst>
              <a:path w="792" h="47">
                <a:moveTo>
                  <a:pt x="0" y="47"/>
                </a:moveTo>
                <a:lnTo>
                  <a:pt x="58" y="0"/>
                </a:lnTo>
                <a:lnTo>
                  <a:pt x="7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0760" y="5805360"/>
            <a:ext cx="7202520" cy="427320"/>
          </a:xfrm>
          <a:custGeom>
            <a:avLst/>
            <a:gdLst/>
            <a:ahLst/>
            <a:rect l="l" t="t" r="r" b="b"/>
            <a:pathLst>
              <a:path w="4537" h="269">
                <a:moveTo>
                  <a:pt x="4537" y="0"/>
                </a:moveTo>
                <a:lnTo>
                  <a:pt x="4205" y="269"/>
                </a:lnTo>
                <a:lnTo>
                  <a:pt x="0" y="269"/>
                </a:lnTo>
                <a:lnTo>
                  <a:pt x="333" y="0"/>
                </a:lnTo>
                <a:lnTo>
                  <a:pt x="453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0760" y="1995480"/>
            <a:ext cx="528480" cy="4237200"/>
          </a:xfrm>
          <a:custGeom>
            <a:avLst/>
            <a:gdLst/>
            <a:ahLst/>
            <a:rect l="l" t="t" r="r" b="b"/>
            <a:pathLst>
              <a:path w="333" h="2669">
                <a:moveTo>
                  <a:pt x="0" y="2669"/>
                </a:moveTo>
                <a:lnTo>
                  <a:pt x="0" y="269"/>
                </a:lnTo>
                <a:lnTo>
                  <a:pt x="333" y="0"/>
                </a:lnTo>
                <a:lnTo>
                  <a:pt x="333" y="2400"/>
                </a:lnTo>
                <a:lnTo>
                  <a:pt x="0" y="266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19240" y="1995480"/>
            <a:ext cx="667404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76520" y="2241720"/>
            <a:ext cx="1046160" cy="3873240"/>
            <a:chOff x="1676520" y="2241720"/>
            <a:chExt cx="1046160" cy="3873240"/>
          </a:xfrm>
        </p:grpSpPr>
        <p:sp>
          <p:nvSpPr>
            <p:cNvPr id="142" name=""/>
            <p:cNvSpPr/>
            <p:nvPr/>
          </p:nvSpPr>
          <p:spPr>
            <a:xfrm>
              <a:off x="2403720" y="2241720"/>
              <a:ext cx="318960" cy="3873240"/>
            </a:xfrm>
            <a:custGeom>
              <a:avLst/>
              <a:gdLst/>
              <a:ahLst/>
              <a:rect l="l" t="t" r="r" b="b"/>
              <a:pathLst>
                <a:path w="201" h="2440">
                  <a:moveTo>
                    <a:pt x="0" y="2440"/>
                  </a:moveTo>
                  <a:lnTo>
                    <a:pt x="0" y="160"/>
                  </a:lnTo>
                  <a:lnTo>
                    <a:pt x="201" y="0"/>
                  </a:lnTo>
                  <a:lnTo>
                    <a:pt x="201" y="2279"/>
                  </a:lnTo>
                  <a:lnTo>
                    <a:pt x="0" y="2440"/>
                  </a:lnTo>
                  <a:close/>
                </a:path>
              </a:pathLst>
            </a:custGeom>
            <a:solidFill>
              <a:srgbClr val="006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495520"/>
              <a:ext cx="727200" cy="3619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2241720"/>
              <a:ext cx="1046160" cy="253800"/>
            </a:xfrm>
            <a:custGeom>
              <a:avLst/>
              <a:gdLst/>
              <a:ahLst/>
              <a:rect l="l" t="t" r="r" b="b"/>
              <a:pathLst>
                <a:path w="659" h="160">
                  <a:moveTo>
                    <a:pt x="458" y="160"/>
                  </a:moveTo>
                  <a:lnTo>
                    <a:pt x="659" y="0"/>
                  </a:lnTo>
                  <a:lnTo>
                    <a:pt x="195" y="0"/>
                  </a:lnTo>
                  <a:lnTo>
                    <a:pt x="0" y="160"/>
                  </a:lnTo>
                  <a:lnTo>
                    <a:pt x="458" y="160"/>
                  </a:lnTo>
                  <a:close/>
                </a:path>
              </a:pathLst>
            </a:custGeom>
            <a:solidFill>
              <a:srgbClr val="009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30960" y="4159080"/>
              <a:ext cx="456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6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664000" y="5896080"/>
            <a:ext cx="1046160" cy="255600"/>
          </a:xfrm>
          <a:custGeom>
            <a:avLst/>
            <a:gdLst/>
            <a:ahLst/>
            <a:rect l="l" t="t" r="r" b="b"/>
            <a:pathLst>
              <a:path w="659" h="161">
                <a:moveTo>
                  <a:pt x="458" y="161"/>
                </a:moveTo>
                <a:lnTo>
                  <a:pt x="659" y="0"/>
                </a:lnTo>
                <a:lnTo>
                  <a:pt x="195" y="0"/>
                </a:lnTo>
                <a:lnTo>
                  <a:pt x="0" y="161"/>
                </a:lnTo>
                <a:lnTo>
                  <a:pt x="458" y="161"/>
                </a:lnTo>
                <a:close/>
              </a:path>
            </a:pathLst>
          </a:cu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619440" y="5742000"/>
            <a:ext cx="1044720" cy="465120"/>
            <a:chOff x="3619440" y="5742000"/>
            <a:chExt cx="1044720" cy="465120"/>
          </a:xfrm>
        </p:grpSpPr>
        <p:sp>
          <p:nvSpPr>
            <p:cNvPr id="148" name=""/>
            <p:cNvSpPr/>
            <p:nvPr/>
          </p:nvSpPr>
          <p:spPr>
            <a:xfrm>
              <a:off x="4346640" y="5742000"/>
              <a:ext cx="317520" cy="409680"/>
            </a:xfrm>
            <a:custGeom>
              <a:avLst/>
              <a:gdLst/>
              <a:ahLst/>
              <a:rect l="l" t="t" r="r" b="b"/>
              <a:pathLst>
                <a:path w="200" h="258">
                  <a:moveTo>
                    <a:pt x="0" y="258"/>
                  </a:moveTo>
                  <a:lnTo>
                    <a:pt x="0" y="160"/>
                  </a:lnTo>
                  <a:lnTo>
                    <a:pt x="200" y="0"/>
                  </a:lnTo>
                  <a:lnTo>
                    <a:pt x="200" y="97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66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9440" y="5996160"/>
              <a:ext cx="727200" cy="155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19440" y="5742000"/>
              <a:ext cx="1044720" cy="254160"/>
            </a:xfrm>
            <a:custGeom>
              <a:avLst/>
              <a:gdLst/>
              <a:ahLst/>
              <a:rect l="l" t="t" r="r" b="b"/>
              <a:pathLst>
                <a:path w="658" h="160">
                  <a:moveTo>
                    <a:pt x="458" y="160"/>
                  </a:moveTo>
                  <a:lnTo>
                    <a:pt x="658" y="0"/>
                  </a:lnTo>
                  <a:lnTo>
                    <a:pt x="194" y="0"/>
                  </a:lnTo>
                  <a:lnTo>
                    <a:pt x="0" y="160"/>
                  </a:lnTo>
                  <a:lnTo>
                    <a:pt x="458" y="160"/>
                  </a:lnTo>
                  <a:close/>
                </a:path>
              </a:pathLst>
            </a:custGeom>
            <a:solidFill>
              <a:srgbClr val="999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37240" y="59324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64080" y="4051440"/>
            <a:ext cx="1055520" cy="2100240"/>
            <a:chOff x="4564080" y="4051440"/>
            <a:chExt cx="1055520" cy="2100240"/>
          </a:xfrm>
        </p:grpSpPr>
        <p:sp>
          <p:nvSpPr>
            <p:cNvPr id="153" name=""/>
            <p:cNvSpPr/>
            <p:nvPr/>
          </p:nvSpPr>
          <p:spPr>
            <a:xfrm>
              <a:off x="5300640" y="4051440"/>
              <a:ext cx="318960" cy="2100240"/>
            </a:xfrm>
            <a:custGeom>
              <a:avLst/>
              <a:gdLst/>
              <a:ahLst/>
              <a:rect l="l" t="t" r="r" b="b"/>
              <a:pathLst>
                <a:path w="201" h="1323">
                  <a:moveTo>
                    <a:pt x="0" y="1323"/>
                  </a:moveTo>
                  <a:lnTo>
                    <a:pt x="0" y="160"/>
                  </a:lnTo>
                  <a:lnTo>
                    <a:pt x="201" y="0"/>
                  </a:lnTo>
                  <a:lnTo>
                    <a:pt x="201" y="1162"/>
                  </a:lnTo>
                  <a:lnTo>
                    <a:pt x="0" y="1323"/>
                  </a:lnTo>
                  <a:close/>
                </a:path>
              </a:pathLst>
            </a:custGeom>
            <a:solidFill>
              <a:srgbClr val="333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64080" y="4305240"/>
              <a:ext cx="736560" cy="18464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64080" y="4051440"/>
              <a:ext cx="1055520" cy="253800"/>
            </a:xfrm>
            <a:custGeom>
              <a:avLst/>
              <a:gdLst/>
              <a:ahLst/>
              <a:rect l="l" t="t" r="r" b="b"/>
              <a:pathLst>
                <a:path w="665" h="160">
                  <a:moveTo>
                    <a:pt x="464" y="160"/>
                  </a:moveTo>
                  <a:lnTo>
                    <a:pt x="665" y="0"/>
                  </a:lnTo>
                  <a:lnTo>
                    <a:pt x="201" y="0"/>
                  </a:lnTo>
                  <a:lnTo>
                    <a:pt x="0" y="160"/>
                  </a:lnTo>
                  <a:lnTo>
                    <a:pt x="464" y="160"/>
                  </a:lnTo>
                  <a:close/>
                </a:path>
              </a:pathLst>
            </a:custGeom>
            <a:solidFill>
              <a:srgbClr val="4d4d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9960" y="508644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9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486400" y="4451400"/>
            <a:ext cx="1044360" cy="1736640"/>
            <a:chOff x="5486400" y="4451400"/>
            <a:chExt cx="1044360" cy="1736640"/>
          </a:xfrm>
        </p:grpSpPr>
        <p:sp>
          <p:nvSpPr>
            <p:cNvPr id="158" name=""/>
            <p:cNvSpPr/>
            <p:nvPr/>
          </p:nvSpPr>
          <p:spPr>
            <a:xfrm>
              <a:off x="6222960" y="4451400"/>
              <a:ext cx="307800" cy="1736640"/>
            </a:xfrm>
            <a:custGeom>
              <a:avLst/>
              <a:gdLst/>
              <a:ahLst/>
              <a:rect l="l" t="t" r="r" b="b"/>
              <a:pathLst>
                <a:path w="194" h="1094">
                  <a:moveTo>
                    <a:pt x="0" y="1094"/>
                  </a:moveTo>
                  <a:lnTo>
                    <a:pt x="0" y="160"/>
                  </a:lnTo>
                  <a:lnTo>
                    <a:pt x="194" y="0"/>
                  </a:lnTo>
                  <a:lnTo>
                    <a:pt x="194" y="933"/>
                  </a:lnTo>
                  <a:lnTo>
                    <a:pt x="0" y="1094"/>
                  </a:lnTo>
                  <a:close/>
                </a:path>
              </a:pathLst>
            </a:cu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86400" y="4705200"/>
              <a:ext cx="736560" cy="14828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6400" y="4451400"/>
              <a:ext cx="1044360" cy="253800"/>
            </a:xfrm>
            <a:custGeom>
              <a:avLst/>
              <a:gdLst/>
              <a:ahLst/>
              <a:rect l="l" t="t" r="r" b="b"/>
              <a:pathLst>
                <a:path w="658" h="160">
                  <a:moveTo>
                    <a:pt x="464" y="160"/>
                  </a:moveTo>
                  <a:lnTo>
                    <a:pt x="658" y="0"/>
                  </a:lnTo>
                  <a:lnTo>
                    <a:pt x="200" y="0"/>
                  </a:lnTo>
                  <a:lnTo>
                    <a:pt x="0" y="160"/>
                  </a:lnTo>
                  <a:lnTo>
                    <a:pt x="464" y="160"/>
                  </a:lnTo>
                  <a:close/>
                </a:path>
              </a:pathLst>
            </a:cu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0480" y="530532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1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473880" y="5186520"/>
            <a:ext cx="1046160" cy="965160"/>
            <a:chOff x="6473880" y="5186520"/>
            <a:chExt cx="1046160" cy="965160"/>
          </a:xfrm>
        </p:grpSpPr>
        <p:sp>
          <p:nvSpPr>
            <p:cNvPr id="163" name=""/>
            <p:cNvSpPr/>
            <p:nvPr/>
          </p:nvSpPr>
          <p:spPr>
            <a:xfrm>
              <a:off x="7210440" y="5186520"/>
              <a:ext cx="309600" cy="965160"/>
            </a:xfrm>
            <a:custGeom>
              <a:avLst/>
              <a:gdLst/>
              <a:ahLst/>
              <a:rect l="l" t="t" r="r" b="b"/>
              <a:pathLst>
                <a:path w="195" h="608">
                  <a:moveTo>
                    <a:pt x="0" y="608"/>
                  </a:moveTo>
                  <a:lnTo>
                    <a:pt x="0" y="161"/>
                  </a:lnTo>
                  <a:lnTo>
                    <a:pt x="195" y="0"/>
                  </a:lnTo>
                  <a:lnTo>
                    <a:pt x="195" y="447"/>
                  </a:lnTo>
                  <a:lnTo>
                    <a:pt x="0" y="608"/>
                  </a:lnTo>
                  <a:close/>
                </a:path>
              </a:pathLst>
            </a:custGeom>
            <a:solidFill>
              <a:srgbClr val="668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3880" y="5442120"/>
              <a:ext cx="736560" cy="709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3880" y="5186520"/>
              <a:ext cx="1046160" cy="255600"/>
            </a:xfrm>
            <a:custGeom>
              <a:avLst/>
              <a:gdLst/>
              <a:ahLst/>
              <a:rect l="l" t="t" r="r" b="b"/>
              <a:pathLst>
                <a:path w="659" h="161">
                  <a:moveTo>
                    <a:pt x="464" y="161"/>
                  </a:moveTo>
                  <a:lnTo>
                    <a:pt x="659" y="0"/>
                  </a:lnTo>
                  <a:lnTo>
                    <a:pt x="201" y="0"/>
                  </a:lnTo>
                  <a:lnTo>
                    <a:pt x="0" y="161"/>
                  </a:lnTo>
                  <a:lnTo>
                    <a:pt x="464" y="161"/>
                  </a:lnTo>
                  <a:close/>
                </a:path>
              </a:pathLst>
            </a:custGeom>
            <a:solidFill>
              <a:srgbClr val="99b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760" y="565164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429680" y="5322960"/>
            <a:ext cx="1044360" cy="828720"/>
            <a:chOff x="7429680" y="5322960"/>
            <a:chExt cx="1044360" cy="828720"/>
          </a:xfrm>
        </p:grpSpPr>
        <p:sp>
          <p:nvSpPr>
            <p:cNvPr id="168" name=""/>
            <p:cNvSpPr/>
            <p:nvPr/>
          </p:nvSpPr>
          <p:spPr>
            <a:xfrm>
              <a:off x="8166240" y="5322960"/>
              <a:ext cx="307800" cy="828720"/>
            </a:xfrm>
            <a:custGeom>
              <a:avLst/>
              <a:gdLst/>
              <a:ahLst/>
              <a:rect l="l" t="t" r="r" b="b"/>
              <a:pathLst>
                <a:path w="194" h="522">
                  <a:moveTo>
                    <a:pt x="0" y="522"/>
                  </a:moveTo>
                  <a:lnTo>
                    <a:pt x="0" y="155"/>
                  </a:lnTo>
                  <a:lnTo>
                    <a:pt x="194" y="0"/>
                  </a:lnTo>
                  <a:lnTo>
                    <a:pt x="194" y="361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1a1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29680" y="5568840"/>
              <a:ext cx="736560" cy="582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29680" y="5322960"/>
              <a:ext cx="1044360" cy="245880"/>
            </a:xfrm>
            <a:custGeom>
              <a:avLst/>
              <a:gdLst/>
              <a:ahLst/>
              <a:rect l="l" t="t" r="r" b="b"/>
              <a:pathLst>
                <a:path w="658" h="155">
                  <a:moveTo>
                    <a:pt x="464" y="155"/>
                  </a:moveTo>
                  <a:lnTo>
                    <a:pt x="658" y="0"/>
                  </a:lnTo>
                  <a:lnTo>
                    <a:pt x="200" y="0"/>
                  </a:lnTo>
                  <a:lnTo>
                    <a:pt x="0" y="155"/>
                  </a:lnTo>
                  <a:lnTo>
                    <a:pt x="464" y="155"/>
                  </a:lnTo>
                  <a:close/>
                </a:path>
              </a:pathLst>
            </a:custGeom>
            <a:solidFill>
              <a:srgbClr val="262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83760" y="571500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2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1490760" y="242244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418760" y="6232680"/>
            <a:ext cx="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418760" y="5278320"/>
            <a:ext cx="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18760" y="4322880"/>
            <a:ext cx="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418760" y="3378240"/>
            <a:ext cx="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18760" y="2422440"/>
            <a:ext cx="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09600" y="60595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46520" y="5105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46520" y="41511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46520" y="320508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46520" y="225108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82640" y="6296040"/>
            <a:ext cx="57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09720" y="629604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360" y="6296040"/>
            <a:ext cx="576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i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80200"/>
            <a:ext cx="630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171360" y="3863160"/>
            <a:ext cx="16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7960" y="629604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43560" y="6280200"/>
            <a:ext cx="1047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lock</a:t>
            </a:r>
            <a:br>
              <a:rPr sz="1900"/>
            </a:b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Reboun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304920"/>
            <a:ext cx="42674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oring Opport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Open Play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37160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19920" y="1523880"/>
            <a:ext cx="2590560" cy="2819520"/>
            <a:chOff x="6019920" y="1523880"/>
            <a:chExt cx="2590560" cy="2819520"/>
          </a:xfrm>
        </p:grpSpPr>
        <p:sp>
          <p:nvSpPr>
            <p:cNvPr id="193" name=""/>
            <p:cNvSpPr/>
            <p:nvPr/>
          </p:nvSpPr>
          <p:spPr>
            <a:xfrm>
              <a:off x="6095880" y="1523880"/>
              <a:ext cx="2514600" cy="281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6019920" y="1676520"/>
            <a:ext cx="2527200" cy="2590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1676520"/>
                      <a:ext cx="2527200" cy="25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6802920" y="284328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42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7360" y="220968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58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460600" y="3587760"/>
            <a:ext cx="992160" cy="1882800"/>
          </a:xfrm>
          <a:custGeom>
            <a:avLst/>
            <a:gdLst/>
            <a:ahLst/>
            <a:rect l="l" t="t" r="r" b="b"/>
            <a:pathLst>
              <a:path w="625" h="1186">
                <a:moveTo>
                  <a:pt x="625" y="956"/>
                </a:moveTo>
                <a:lnTo>
                  <a:pt x="597" y="947"/>
                </a:lnTo>
                <a:lnTo>
                  <a:pt x="561" y="919"/>
                </a:lnTo>
                <a:lnTo>
                  <a:pt x="542" y="910"/>
                </a:lnTo>
                <a:lnTo>
                  <a:pt x="524" y="901"/>
                </a:lnTo>
                <a:lnTo>
                  <a:pt x="487" y="873"/>
                </a:lnTo>
                <a:lnTo>
                  <a:pt x="469" y="855"/>
                </a:lnTo>
                <a:lnTo>
                  <a:pt x="450" y="846"/>
                </a:lnTo>
                <a:lnTo>
                  <a:pt x="414" y="818"/>
                </a:lnTo>
                <a:lnTo>
                  <a:pt x="395" y="800"/>
                </a:lnTo>
                <a:lnTo>
                  <a:pt x="377" y="791"/>
                </a:lnTo>
                <a:lnTo>
                  <a:pt x="349" y="754"/>
                </a:lnTo>
                <a:lnTo>
                  <a:pt x="331" y="745"/>
                </a:lnTo>
                <a:lnTo>
                  <a:pt x="312" y="726"/>
                </a:lnTo>
                <a:lnTo>
                  <a:pt x="285" y="699"/>
                </a:lnTo>
                <a:lnTo>
                  <a:pt x="267" y="680"/>
                </a:lnTo>
                <a:lnTo>
                  <a:pt x="257" y="662"/>
                </a:lnTo>
                <a:lnTo>
                  <a:pt x="230" y="625"/>
                </a:lnTo>
                <a:lnTo>
                  <a:pt x="211" y="616"/>
                </a:lnTo>
                <a:lnTo>
                  <a:pt x="202" y="598"/>
                </a:lnTo>
                <a:lnTo>
                  <a:pt x="175" y="561"/>
                </a:lnTo>
                <a:lnTo>
                  <a:pt x="165" y="542"/>
                </a:lnTo>
                <a:lnTo>
                  <a:pt x="156" y="524"/>
                </a:lnTo>
                <a:lnTo>
                  <a:pt x="129" y="487"/>
                </a:lnTo>
                <a:lnTo>
                  <a:pt x="120" y="469"/>
                </a:lnTo>
                <a:lnTo>
                  <a:pt x="110" y="451"/>
                </a:lnTo>
                <a:lnTo>
                  <a:pt x="92" y="414"/>
                </a:lnTo>
                <a:lnTo>
                  <a:pt x="83" y="395"/>
                </a:lnTo>
                <a:lnTo>
                  <a:pt x="74" y="377"/>
                </a:lnTo>
                <a:lnTo>
                  <a:pt x="55" y="340"/>
                </a:lnTo>
                <a:lnTo>
                  <a:pt x="55" y="313"/>
                </a:lnTo>
                <a:lnTo>
                  <a:pt x="46" y="294"/>
                </a:lnTo>
                <a:lnTo>
                  <a:pt x="37" y="258"/>
                </a:lnTo>
                <a:lnTo>
                  <a:pt x="28" y="239"/>
                </a:lnTo>
                <a:lnTo>
                  <a:pt x="28" y="221"/>
                </a:lnTo>
                <a:lnTo>
                  <a:pt x="18" y="175"/>
                </a:lnTo>
                <a:lnTo>
                  <a:pt x="9" y="156"/>
                </a:lnTo>
                <a:lnTo>
                  <a:pt x="9" y="138"/>
                </a:lnTo>
                <a:lnTo>
                  <a:pt x="0" y="101"/>
                </a:lnTo>
                <a:lnTo>
                  <a:pt x="0" y="83"/>
                </a:lnTo>
                <a:lnTo>
                  <a:pt x="0" y="55"/>
                </a:lnTo>
                <a:lnTo>
                  <a:pt x="0" y="19"/>
                </a:lnTo>
                <a:lnTo>
                  <a:pt x="0" y="0"/>
                </a:lnTo>
                <a:lnTo>
                  <a:pt x="0" y="230"/>
                </a:lnTo>
                <a:lnTo>
                  <a:pt x="0" y="248"/>
                </a:lnTo>
                <a:lnTo>
                  <a:pt x="0" y="285"/>
                </a:lnTo>
                <a:lnTo>
                  <a:pt x="0" y="313"/>
                </a:lnTo>
                <a:lnTo>
                  <a:pt x="0" y="331"/>
                </a:lnTo>
                <a:lnTo>
                  <a:pt x="9" y="368"/>
                </a:lnTo>
                <a:lnTo>
                  <a:pt x="9" y="386"/>
                </a:lnTo>
                <a:lnTo>
                  <a:pt x="18" y="405"/>
                </a:lnTo>
                <a:lnTo>
                  <a:pt x="28" y="451"/>
                </a:lnTo>
                <a:lnTo>
                  <a:pt x="28" y="469"/>
                </a:lnTo>
                <a:lnTo>
                  <a:pt x="37" y="487"/>
                </a:lnTo>
                <a:lnTo>
                  <a:pt x="46" y="524"/>
                </a:lnTo>
                <a:lnTo>
                  <a:pt x="55" y="542"/>
                </a:lnTo>
                <a:lnTo>
                  <a:pt x="55" y="570"/>
                </a:lnTo>
                <a:lnTo>
                  <a:pt x="74" y="607"/>
                </a:lnTo>
                <a:lnTo>
                  <a:pt x="83" y="625"/>
                </a:lnTo>
                <a:lnTo>
                  <a:pt x="92" y="644"/>
                </a:lnTo>
                <a:lnTo>
                  <a:pt x="110" y="680"/>
                </a:lnTo>
                <a:lnTo>
                  <a:pt x="120" y="699"/>
                </a:lnTo>
                <a:lnTo>
                  <a:pt x="129" y="717"/>
                </a:lnTo>
                <a:lnTo>
                  <a:pt x="156" y="754"/>
                </a:lnTo>
                <a:lnTo>
                  <a:pt x="165" y="772"/>
                </a:lnTo>
                <a:lnTo>
                  <a:pt x="175" y="791"/>
                </a:lnTo>
                <a:lnTo>
                  <a:pt x="202" y="827"/>
                </a:lnTo>
                <a:lnTo>
                  <a:pt x="211" y="846"/>
                </a:lnTo>
                <a:lnTo>
                  <a:pt x="230" y="855"/>
                </a:lnTo>
                <a:lnTo>
                  <a:pt x="257" y="892"/>
                </a:lnTo>
                <a:lnTo>
                  <a:pt x="267" y="910"/>
                </a:lnTo>
                <a:lnTo>
                  <a:pt x="285" y="929"/>
                </a:lnTo>
                <a:lnTo>
                  <a:pt x="312" y="956"/>
                </a:lnTo>
                <a:lnTo>
                  <a:pt x="331" y="975"/>
                </a:lnTo>
                <a:lnTo>
                  <a:pt x="349" y="984"/>
                </a:lnTo>
                <a:lnTo>
                  <a:pt x="377" y="1020"/>
                </a:lnTo>
                <a:lnTo>
                  <a:pt x="395" y="1030"/>
                </a:lnTo>
                <a:lnTo>
                  <a:pt x="414" y="1048"/>
                </a:lnTo>
                <a:lnTo>
                  <a:pt x="450" y="1076"/>
                </a:lnTo>
                <a:lnTo>
                  <a:pt x="469" y="1085"/>
                </a:lnTo>
                <a:lnTo>
                  <a:pt x="487" y="1103"/>
                </a:lnTo>
                <a:lnTo>
                  <a:pt x="524" y="1131"/>
                </a:lnTo>
                <a:lnTo>
                  <a:pt x="542" y="1140"/>
                </a:lnTo>
                <a:lnTo>
                  <a:pt x="561" y="1149"/>
                </a:lnTo>
                <a:lnTo>
                  <a:pt x="597" y="1177"/>
                </a:lnTo>
                <a:lnTo>
                  <a:pt x="625" y="1186"/>
                </a:lnTo>
                <a:lnTo>
                  <a:pt x="625" y="95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52760" y="3587760"/>
            <a:ext cx="1254240" cy="1897200"/>
          </a:xfrm>
          <a:custGeom>
            <a:avLst/>
            <a:gdLst/>
            <a:ahLst/>
            <a:rect l="l" t="t" r="r" b="b"/>
            <a:pathLst>
              <a:path w="790" h="1195">
                <a:moveTo>
                  <a:pt x="790" y="0"/>
                </a:moveTo>
                <a:lnTo>
                  <a:pt x="0" y="965"/>
                </a:lnTo>
                <a:lnTo>
                  <a:pt x="0" y="1195"/>
                </a:lnTo>
                <a:lnTo>
                  <a:pt x="790" y="230"/>
                </a:lnTo>
                <a:lnTo>
                  <a:pt x="79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60600" y="1749600"/>
            <a:ext cx="2246400" cy="3369960"/>
          </a:xfrm>
          <a:custGeom>
            <a:avLst/>
            <a:gdLst/>
            <a:ahLst/>
            <a:rect l="l" t="t" r="r" b="b"/>
            <a:pathLst>
              <a:path w="1415" h="2123">
                <a:moveTo>
                  <a:pt x="625" y="2123"/>
                </a:moveTo>
                <a:lnTo>
                  <a:pt x="597" y="2114"/>
                </a:lnTo>
                <a:lnTo>
                  <a:pt x="561" y="2087"/>
                </a:lnTo>
                <a:lnTo>
                  <a:pt x="542" y="2077"/>
                </a:lnTo>
                <a:lnTo>
                  <a:pt x="524" y="2068"/>
                </a:lnTo>
                <a:lnTo>
                  <a:pt x="487" y="2041"/>
                </a:lnTo>
                <a:lnTo>
                  <a:pt x="469" y="2022"/>
                </a:lnTo>
                <a:lnTo>
                  <a:pt x="450" y="2013"/>
                </a:lnTo>
                <a:lnTo>
                  <a:pt x="414" y="1985"/>
                </a:lnTo>
                <a:lnTo>
                  <a:pt x="395" y="1967"/>
                </a:lnTo>
                <a:lnTo>
                  <a:pt x="377" y="1958"/>
                </a:lnTo>
                <a:lnTo>
                  <a:pt x="358" y="1939"/>
                </a:lnTo>
                <a:lnTo>
                  <a:pt x="331" y="1912"/>
                </a:lnTo>
                <a:lnTo>
                  <a:pt x="312" y="1894"/>
                </a:lnTo>
                <a:lnTo>
                  <a:pt x="294" y="1875"/>
                </a:lnTo>
                <a:lnTo>
                  <a:pt x="267" y="1848"/>
                </a:lnTo>
                <a:lnTo>
                  <a:pt x="257" y="1829"/>
                </a:lnTo>
                <a:lnTo>
                  <a:pt x="239" y="1811"/>
                </a:lnTo>
                <a:lnTo>
                  <a:pt x="211" y="1774"/>
                </a:lnTo>
                <a:lnTo>
                  <a:pt x="202" y="1756"/>
                </a:lnTo>
                <a:lnTo>
                  <a:pt x="184" y="1746"/>
                </a:lnTo>
                <a:lnTo>
                  <a:pt x="165" y="1710"/>
                </a:lnTo>
                <a:lnTo>
                  <a:pt x="156" y="1691"/>
                </a:lnTo>
                <a:lnTo>
                  <a:pt x="138" y="1673"/>
                </a:lnTo>
                <a:lnTo>
                  <a:pt x="120" y="1636"/>
                </a:lnTo>
                <a:lnTo>
                  <a:pt x="110" y="1618"/>
                </a:lnTo>
                <a:lnTo>
                  <a:pt x="101" y="1599"/>
                </a:lnTo>
                <a:lnTo>
                  <a:pt x="83" y="1563"/>
                </a:lnTo>
                <a:lnTo>
                  <a:pt x="74" y="1535"/>
                </a:lnTo>
                <a:lnTo>
                  <a:pt x="64" y="1517"/>
                </a:lnTo>
                <a:lnTo>
                  <a:pt x="55" y="1498"/>
                </a:lnTo>
                <a:lnTo>
                  <a:pt x="46" y="1461"/>
                </a:lnTo>
                <a:lnTo>
                  <a:pt x="37" y="1443"/>
                </a:lnTo>
                <a:lnTo>
                  <a:pt x="37" y="1425"/>
                </a:lnTo>
                <a:lnTo>
                  <a:pt x="28" y="1379"/>
                </a:lnTo>
                <a:lnTo>
                  <a:pt x="18" y="1360"/>
                </a:lnTo>
                <a:lnTo>
                  <a:pt x="18" y="1342"/>
                </a:lnTo>
                <a:lnTo>
                  <a:pt x="9" y="1305"/>
                </a:lnTo>
                <a:lnTo>
                  <a:pt x="9" y="1278"/>
                </a:lnTo>
                <a:lnTo>
                  <a:pt x="0" y="1259"/>
                </a:lnTo>
                <a:lnTo>
                  <a:pt x="0" y="1222"/>
                </a:lnTo>
                <a:lnTo>
                  <a:pt x="0" y="1204"/>
                </a:lnTo>
                <a:lnTo>
                  <a:pt x="0" y="1177"/>
                </a:lnTo>
                <a:lnTo>
                  <a:pt x="0" y="1140"/>
                </a:lnTo>
                <a:lnTo>
                  <a:pt x="0" y="1121"/>
                </a:lnTo>
                <a:lnTo>
                  <a:pt x="0" y="1103"/>
                </a:lnTo>
                <a:lnTo>
                  <a:pt x="0" y="1057"/>
                </a:lnTo>
                <a:lnTo>
                  <a:pt x="9" y="1039"/>
                </a:lnTo>
                <a:lnTo>
                  <a:pt x="9" y="1020"/>
                </a:lnTo>
                <a:lnTo>
                  <a:pt x="9" y="1002"/>
                </a:lnTo>
                <a:lnTo>
                  <a:pt x="18" y="956"/>
                </a:lnTo>
                <a:lnTo>
                  <a:pt x="28" y="938"/>
                </a:lnTo>
                <a:lnTo>
                  <a:pt x="28" y="919"/>
                </a:lnTo>
                <a:lnTo>
                  <a:pt x="37" y="882"/>
                </a:lnTo>
                <a:lnTo>
                  <a:pt x="46" y="864"/>
                </a:lnTo>
                <a:lnTo>
                  <a:pt x="55" y="836"/>
                </a:lnTo>
                <a:lnTo>
                  <a:pt x="64" y="800"/>
                </a:lnTo>
                <a:lnTo>
                  <a:pt x="74" y="781"/>
                </a:lnTo>
                <a:lnTo>
                  <a:pt x="83" y="763"/>
                </a:lnTo>
                <a:lnTo>
                  <a:pt x="101" y="726"/>
                </a:lnTo>
                <a:lnTo>
                  <a:pt x="110" y="708"/>
                </a:lnTo>
                <a:lnTo>
                  <a:pt x="120" y="689"/>
                </a:lnTo>
                <a:lnTo>
                  <a:pt x="138" y="653"/>
                </a:lnTo>
                <a:lnTo>
                  <a:pt x="156" y="634"/>
                </a:lnTo>
                <a:lnTo>
                  <a:pt x="165" y="616"/>
                </a:lnTo>
                <a:lnTo>
                  <a:pt x="175" y="597"/>
                </a:lnTo>
                <a:lnTo>
                  <a:pt x="202" y="561"/>
                </a:lnTo>
                <a:lnTo>
                  <a:pt x="211" y="542"/>
                </a:lnTo>
                <a:lnTo>
                  <a:pt x="230" y="524"/>
                </a:lnTo>
                <a:lnTo>
                  <a:pt x="257" y="496"/>
                </a:lnTo>
                <a:lnTo>
                  <a:pt x="267" y="478"/>
                </a:lnTo>
                <a:lnTo>
                  <a:pt x="285" y="460"/>
                </a:lnTo>
                <a:lnTo>
                  <a:pt x="312" y="432"/>
                </a:lnTo>
                <a:lnTo>
                  <a:pt x="331" y="414"/>
                </a:lnTo>
                <a:lnTo>
                  <a:pt x="349" y="395"/>
                </a:lnTo>
                <a:lnTo>
                  <a:pt x="377" y="368"/>
                </a:lnTo>
                <a:lnTo>
                  <a:pt x="395" y="349"/>
                </a:lnTo>
                <a:lnTo>
                  <a:pt x="414" y="340"/>
                </a:lnTo>
                <a:lnTo>
                  <a:pt x="450" y="312"/>
                </a:lnTo>
                <a:lnTo>
                  <a:pt x="469" y="294"/>
                </a:lnTo>
                <a:lnTo>
                  <a:pt x="487" y="285"/>
                </a:lnTo>
                <a:lnTo>
                  <a:pt x="524" y="257"/>
                </a:lnTo>
                <a:lnTo>
                  <a:pt x="542" y="248"/>
                </a:lnTo>
                <a:lnTo>
                  <a:pt x="561" y="230"/>
                </a:lnTo>
                <a:lnTo>
                  <a:pt x="579" y="221"/>
                </a:lnTo>
                <a:lnTo>
                  <a:pt x="625" y="193"/>
                </a:lnTo>
                <a:lnTo>
                  <a:pt x="643" y="184"/>
                </a:lnTo>
                <a:lnTo>
                  <a:pt x="662" y="175"/>
                </a:lnTo>
                <a:lnTo>
                  <a:pt x="708" y="156"/>
                </a:lnTo>
                <a:lnTo>
                  <a:pt x="726" y="147"/>
                </a:lnTo>
                <a:lnTo>
                  <a:pt x="744" y="138"/>
                </a:lnTo>
                <a:lnTo>
                  <a:pt x="790" y="119"/>
                </a:lnTo>
                <a:lnTo>
                  <a:pt x="818" y="110"/>
                </a:lnTo>
                <a:lnTo>
                  <a:pt x="836" y="101"/>
                </a:lnTo>
                <a:lnTo>
                  <a:pt x="882" y="83"/>
                </a:lnTo>
                <a:lnTo>
                  <a:pt x="910" y="73"/>
                </a:lnTo>
                <a:lnTo>
                  <a:pt x="928" y="64"/>
                </a:lnTo>
                <a:lnTo>
                  <a:pt x="974" y="55"/>
                </a:lnTo>
                <a:lnTo>
                  <a:pt x="1002" y="46"/>
                </a:lnTo>
                <a:lnTo>
                  <a:pt x="1020" y="46"/>
                </a:lnTo>
                <a:lnTo>
                  <a:pt x="1066" y="37"/>
                </a:lnTo>
                <a:lnTo>
                  <a:pt x="1094" y="27"/>
                </a:lnTo>
                <a:lnTo>
                  <a:pt x="1121" y="27"/>
                </a:lnTo>
                <a:lnTo>
                  <a:pt x="1139" y="18"/>
                </a:lnTo>
                <a:lnTo>
                  <a:pt x="1195" y="9"/>
                </a:lnTo>
                <a:lnTo>
                  <a:pt x="1213" y="9"/>
                </a:lnTo>
                <a:lnTo>
                  <a:pt x="1241" y="9"/>
                </a:lnTo>
                <a:lnTo>
                  <a:pt x="1287" y="0"/>
                </a:lnTo>
                <a:lnTo>
                  <a:pt x="1314" y="0"/>
                </a:lnTo>
                <a:lnTo>
                  <a:pt x="1342" y="0"/>
                </a:lnTo>
                <a:lnTo>
                  <a:pt x="1388" y="0"/>
                </a:lnTo>
                <a:lnTo>
                  <a:pt x="1415" y="0"/>
                </a:lnTo>
                <a:lnTo>
                  <a:pt x="1415" y="1158"/>
                </a:lnTo>
                <a:lnTo>
                  <a:pt x="625" y="212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52760" y="3587760"/>
            <a:ext cx="3500640" cy="2203560"/>
          </a:xfrm>
          <a:custGeom>
            <a:avLst/>
            <a:gdLst/>
            <a:ahLst/>
            <a:rect l="l" t="t" r="r" b="b"/>
            <a:pathLst>
              <a:path w="2205" h="1388">
                <a:moveTo>
                  <a:pt x="2205" y="0"/>
                </a:moveTo>
                <a:lnTo>
                  <a:pt x="2205" y="19"/>
                </a:lnTo>
                <a:lnTo>
                  <a:pt x="2205" y="55"/>
                </a:lnTo>
                <a:lnTo>
                  <a:pt x="2196" y="83"/>
                </a:lnTo>
                <a:lnTo>
                  <a:pt x="2196" y="101"/>
                </a:lnTo>
                <a:lnTo>
                  <a:pt x="2196" y="138"/>
                </a:lnTo>
                <a:lnTo>
                  <a:pt x="2187" y="156"/>
                </a:lnTo>
                <a:lnTo>
                  <a:pt x="2187" y="175"/>
                </a:lnTo>
                <a:lnTo>
                  <a:pt x="2178" y="221"/>
                </a:lnTo>
                <a:lnTo>
                  <a:pt x="2168" y="239"/>
                </a:lnTo>
                <a:lnTo>
                  <a:pt x="2168" y="258"/>
                </a:lnTo>
                <a:lnTo>
                  <a:pt x="2159" y="294"/>
                </a:lnTo>
                <a:lnTo>
                  <a:pt x="2150" y="313"/>
                </a:lnTo>
                <a:lnTo>
                  <a:pt x="2141" y="340"/>
                </a:lnTo>
                <a:lnTo>
                  <a:pt x="2123" y="377"/>
                </a:lnTo>
                <a:lnTo>
                  <a:pt x="2113" y="395"/>
                </a:lnTo>
                <a:lnTo>
                  <a:pt x="2113" y="414"/>
                </a:lnTo>
                <a:lnTo>
                  <a:pt x="2095" y="451"/>
                </a:lnTo>
                <a:lnTo>
                  <a:pt x="2077" y="469"/>
                </a:lnTo>
                <a:lnTo>
                  <a:pt x="2067" y="487"/>
                </a:lnTo>
                <a:lnTo>
                  <a:pt x="2049" y="524"/>
                </a:lnTo>
                <a:lnTo>
                  <a:pt x="2040" y="542"/>
                </a:lnTo>
                <a:lnTo>
                  <a:pt x="2021" y="561"/>
                </a:lnTo>
                <a:lnTo>
                  <a:pt x="2003" y="598"/>
                </a:lnTo>
                <a:lnTo>
                  <a:pt x="1985" y="616"/>
                </a:lnTo>
                <a:lnTo>
                  <a:pt x="1976" y="625"/>
                </a:lnTo>
                <a:lnTo>
                  <a:pt x="1948" y="662"/>
                </a:lnTo>
                <a:lnTo>
                  <a:pt x="1930" y="680"/>
                </a:lnTo>
                <a:lnTo>
                  <a:pt x="1920" y="699"/>
                </a:lnTo>
                <a:lnTo>
                  <a:pt x="1884" y="726"/>
                </a:lnTo>
                <a:lnTo>
                  <a:pt x="1874" y="745"/>
                </a:lnTo>
                <a:lnTo>
                  <a:pt x="1856" y="754"/>
                </a:lnTo>
                <a:lnTo>
                  <a:pt x="1819" y="791"/>
                </a:lnTo>
                <a:lnTo>
                  <a:pt x="1810" y="800"/>
                </a:lnTo>
                <a:lnTo>
                  <a:pt x="1792" y="818"/>
                </a:lnTo>
                <a:lnTo>
                  <a:pt x="1755" y="846"/>
                </a:lnTo>
                <a:lnTo>
                  <a:pt x="1737" y="855"/>
                </a:lnTo>
                <a:lnTo>
                  <a:pt x="1718" y="873"/>
                </a:lnTo>
                <a:lnTo>
                  <a:pt x="1681" y="901"/>
                </a:lnTo>
                <a:lnTo>
                  <a:pt x="1663" y="910"/>
                </a:lnTo>
                <a:lnTo>
                  <a:pt x="1636" y="919"/>
                </a:lnTo>
                <a:lnTo>
                  <a:pt x="1599" y="947"/>
                </a:lnTo>
                <a:lnTo>
                  <a:pt x="1580" y="956"/>
                </a:lnTo>
                <a:lnTo>
                  <a:pt x="1562" y="965"/>
                </a:lnTo>
                <a:lnTo>
                  <a:pt x="1516" y="993"/>
                </a:lnTo>
                <a:lnTo>
                  <a:pt x="1498" y="1002"/>
                </a:lnTo>
                <a:lnTo>
                  <a:pt x="1470" y="1011"/>
                </a:lnTo>
                <a:lnTo>
                  <a:pt x="1433" y="1030"/>
                </a:lnTo>
                <a:lnTo>
                  <a:pt x="1406" y="1039"/>
                </a:lnTo>
                <a:lnTo>
                  <a:pt x="1387" y="1048"/>
                </a:lnTo>
                <a:lnTo>
                  <a:pt x="1341" y="1066"/>
                </a:lnTo>
                <a:lnTo>
                  <a:pt x="1314" y="1076"/>
                </a:lnTo>
                <a:lnTo>
                  <a:pt x="1296" y="1076"/>
                </a:lnTo>
                <a:lnTo>
                  <a:pt x="1250" y="1094"/>
                </a:lnTo>
                <a:lnTo>
                  <a:pt x="1222" y="1103"/>
                </a:lnTo>
                <a:lnTo>
                  <a:pt x="1204" y="1103"/>
                </a:lnTo>
                <a:lnTo>
                  <a:pt x="1158" y="1112"/>
                </a:lnTo>
                <a:lnTo>
                  <a:pt x="1130" y="1122"/>
                </a:lnTo>
                <a:lnTo>
                  <a:pt x="1103" y="1131"/>
                </a:lnTo>
                <a:lnTo>
                  <a:pt x="1057" y="1131"/>
                </a:lnTo>
                <a:lnTo>
                  <a:pt x="1029" y="1140"/>
                </a:lnTo>
                <a:lnTo>
                  <a:pt x="1011" y="1140"/>
                </a:lnTo>
                <a:lnTo>
                  <a:pt x="965" y="1149"/>
                </a:lnTo>
                <a:lnTo>
                  <a:pt x="937" y="1149"/>
                </a:lnTo>
                <a:lnTo>
                  <a:pt x="910" y="1149"/>
                </a:lnTo>
                <a:lnTo>
                  <a:pt x="864" y="1158"/>
                </a:lnTo>
                <a:lnTo>
                  <a:pt x="836" y="1158"/>
                </a:lnTo>
                <a:lnTo>
                  <a:pt x="809" y="1158"/>
                </a:lnTo>
                <a:lnTo>
                  <a:pt x="763" y="1158"/>
                </a:lnTo>
                <a:lnTo>
                  <a:pt x="735" y="1158"/>
                </a:lnTo>
                <a:lnTo>
                  <a:pt x="717" y="1158"/>
                </a:lnTo>
                <a:lnTo>
                  <a:pt x="662" y="1149"/>
                </a:lnTo>
                <a:lnTo>
                  <a:pt x="643" y="1149"/>
                </a:lnTo>
                <a:lnTo>
                  <a:pt x="616" y="1149"/>
                </a:lnTo>
                <a:lnTo>
                  <a:pt x="570" y="1140"/>
                </a:lnTo>
                <a:lnTo>
                  <a:pt x="542" y="1140"/>
                </a:lnTo>
                <a:lnTo>
                  <a:pt x="514" y="1131"/>
                </a:lnTo>
                <a:lnTo>
                  <a:pt x="469" y="1131"/>
                </a:lnTo>
                <a:lnTo>
                  <a:pt x="441" y="1122"/>
                </a:lnTo>
                <a:lnTo>
                  <a:pt x="423" y="1112"/>
                </a:lnTo>
                <a:lnTo>
                  <a:pt x="377" y="1103"/>
                </a:lnTo>
                <a:lnTo>
                  <a:pt x="349" y="1103"/>
                </a:lnTo>
                <a:lnTo>
                  <a:pt x="331" y="1094"/>
                </a:lnTo>
                <a:lnTo>
                  <a:pt x="285" y="1076"/>
                </a:lnTo>
                <a:lnTo>
                  <a:pt x="257" y="1076"/>
                </a:lnTo>
                <a:lnTo>
                  <a:pt x="239" y="1066"/>
                </a:lnTo>
                <a:lnTo>
                  <a:pt x="193" y="1048"/>
                </a:lnTo>
                <a:lnTo>
                  <a:pt x="165" y="1039"/>
                </a:lnTo>
                <a:lnTo>
                  <a:pt x="147" y="1030"/>
                </a:lnTo>
                <a:lnTo>
                  <a:pt x="101" y="1011"/>
                </a:lnTo>
                <a:lnTo>
                  <a:pt x="83" y="1002"/>
                </a:lnTo>
                <a:lnTo>
                  <a:pt x="55" y="993"/>
                </a:lnTo>
                <a:lnTo>
                  <a:pt x="18" y="965"/>
                </a:lnTo>
                <a:lnTo>
                  <a:pt x="0" y="956"/>
                </a:lnTo>
                <a:lnTo>
                  <a:pt x="0" y="1186"/>
                </a:lnTo>
                <a:lnTo>
                  <a:pt x="18" y="1195"/>
                </a:lnTo>
                <a:lnTo>
                  <a:pt x="55" y="1223"/>
                </a:lnTo>
                <a:lnTo>
                  <a:pt x="83" y="1232"/>
                </a:lnTo>
                <a:lnTo>
                  <a:pt x="101" y="1241"/>
                </a:lnTo>
                <a:lnTo>
                  <a:pt x="147" y="1259"/>
                </a:lnTo>
                <a:lnTo>
                  <a:pt x="165" y="1269"/>
                </a:lnTo>
                <a:lnTo>
                  <a:pt x="193" y="1278"/>
                </a:lnTo>
                <a:lnTo>
                  <a:pt x="239" y="1296"/>
                </a:lnTo>
                <a:lnTo>
                  <a:pt x="257" y="1305"/>
                </a:lnTo>
                <a:lnTo>
                  <a:pt x="285" y="1305"/>
                </a:lnTo>
                <a:lnTo>
                  <a:pt x="331" y="1324"/>
                </a:lnTo>
                <a:lnTo>
                  <a:pt x="349" y="1333"/>
                </a:lnTo>
                <a:lnTo>
                  <a:pt x="377" y="1333"/>
                </a:lnTo>
                <a:lnTo>
                  <a:pt x="423" y="1342"/>
                </a:lnTo>
                <a:lnTo>
                  <a:pt x="441" y="1351"/>
                </a:lnTo>
                <a:lnTo>
                  <a:pt x="469" y="1361"/>
                </a:lnTo>
                <a:lnTo>
                  <a:pt x="514" y="1361"/>
                </a:lnTo>
                <a:lnTo>
                  <a:pt x="542" y="1370"/>
                </a:lnTo>
                <a:lnTo>
                  <a:pt x="570" y="1370"/>
                </a:lnTo>
                <a:lnTo>
                  <a:pt x="616" y="1379"/>
                </a:lnTo>
                <a:lnTo>
                  <a:pt x="643" y="1379"/>
                </a:lnTo>
                <a:lnTo>
                  <a:pt x="662" y="1379"/>
                </a:lnTo>
                <a:lnTo>
                  <a:pt x="717" y="1388"/>
                </a:lnTo>
                <a:lnTo>
                  <a:pt x="735" y="1388"/>
                </a:lnTo>
                <a:lnTo>
                  <a:pt x="763" y="1388"/>
                </a:lnTo>
                <a:lnTo>
                  <a:pt x="809" y="1388"/>
                </a:lnTo>
                <a:lnTo>
                  <a:pt x="836" y="1388"/>
                </a:lnTo>
                <a:lnTo>
                  <a:pt x="864" y="1388"/>
                </a:lnTo>
                <a:lnTo>
                  <a:pt x="910" y="1379"/>
                </a:lnTo>
                <a:lnTo>
                  <a:pt x="937" y="1379"/>
                </a:lnTo>
                <a:lnTo>
                  <a:pt x="965" y="1379"/>
                </a:lnTo>
                <a:lnTo>
                  <a:pt x="1011" y="1370"/>
                </a:lnTo>
                <a:lnTo>
                  <a:pt x="1029" y="1370"/>
                </a:lnTo>
                <a:lnTo>
                  <a:pt x="1057" y="1361"/>
                </a:lnTo>
                <a:lnTo>
                  <a:pt x="1103" y="1361"/>
                </a:lnTo>
                <a:lnTo>
                  <a:pt x="1130" y="1351"/>
                </a:lnTo>
                <a:lnTo>
                  <a:pt x="1158" y="1342"/>
                </a:lnTo>
                <a:lnTo>
                  <a:pt x="1204" y="1333"/>
                </a:lnTo>
                <a:lnTo>
                  <a:pt x="1222" y="1333"/>
                </a:lnTo>
                <a:lnTo>
                  <a:pt x="1250" y="1324"/>
                </a:lnTo>
                <a:lnTo>
                  <a:pt x="1296" y="1305"/>
                </a:lnTo>
                <a:lnTo>
                  <a:pt x="1314" y="1305"/>
                </a:lnTo>
                <a:lnTo>
                  <a:pt x="1341" y="1296"/>
                </a:lnTo>
                <a:lnTo>
                  <a:pt x="1387" y="1278"/>
                </a:lnTo>
                <a:lnTo>
                  <a:pt x="1406" y="1269"/>
                </a:lnTo>
                <a:lnTo>
                  <a:pt x="1433" y="1259"/>
                </a:lnTo>
                <a:lnTo>
                  <a:pt x="1470" y="1241"/>
                </a:lnTo>
                <a:lnTo>
                  <a:pt x="1498" y="1232"/>
                </a:lnTo>
                <a:lnTo>
                  <a:pt x="1516" y="1223"/>
                </a:lnTo>
                <a:lnTo>
                  <a:pt x="1562" y="1195"/>
                </a:lnTo>
                <a:lnTo>
                  <a:pt x="1580" y="1186"/>
                </a:lnTo>
                <a:lnTo>
                  <a:pt x="1599" y="1177"/>
                </a:lnTo>
                <a:lnTo>
                  <a:pt x="1636" y="1149"/>
                </a:lnTo>
                <a:lnTo>
                  <a:pt x="1663" y="1140"/>
                </a:lnTo>
                <a:lnTo>
                  <a:pt x="1681" y="1131"/>
                </a:lnTo>
                <a:lnTo>
                  <a:pt x="1718" y="1103"/>
                </a:lnTo>
                <a:lnTo>
                  <a:pt x="1737" y="1085"/>
                </a:lnTo>
                <a:lnTo>
                  <a:pt x="1755" y="1076"/>
                </a:lnTo>
                <a:lnTo>
                  <a:pt x="1792" y="1048"/>
                </a:lnTo>
                <a:lnTo>
                  <a:pt x="1810" y="1030"/>
                </a:lnTo>
                <a:lnTo>
                  <a:pt x="1819" y="1020"/>
                </a:lnTo>
                <a:lnTo>
                  <a:pt x="1856" y="984"/>
                </a:lnTo>
                <a:lnTo>
                  <a:pt x="1874" y="975"/>
                </a:lnTo>
                <a:lnTo>
                  <a:pt x="1884" y="956"/>
                </a:lnTo>
                <a:lnTo>
                  <a:pt x="1920" y="929"/>
                </a:lnTo>
                <a:lnTo>
                  <a:pt x="1930" y="910"/>
                </a:lnTo>
                <a:lnTo>
                  <a:pt x="1948" y="892"/>
                </a:lnTo>
                <a:lnTo>
                  <a:pt x="1976" y="855"/>
                </a:lnTo>
                <a:lnTo>
                  <a:pt x="1985" y="846"/>
                </a:lnTo>
                <a:lnTo>
                  <a:pt x="2003" y="827"/>
                </a:lnTo>
                <a:lnTo>
                  <a:pt x="2021" y="791"/>
                </a:lnTo>
                <a:lnTo>
                  <a:pt x="2040" y="772"/>
                </a:lnTo>
                <a:lnTo>
                  <a:pt x="2049" y="754"/>
                </a:lnTo>
                <a:lnTo>
                  <a:pt x="2067" y="717"/>
                </a:lnTo>
                <a:lnTo>
                  <a:pt x="2077" y="699"/>
                </a:lnTo>
                <a:lnTo>
                  <a:pt x="2095" y="680"/>
                </a:lnTo>
                <a:lnTo>
                  <a:pt x="2113" y="644"/>
                </a:lnTo>
                <a:lnTo>
                  <a:pt x="2113" y="625"/>
                </a:lnTo>
                <a:lnTo>
                  <a:pt x="2123" y="607"/>
                </a:lnTo>
                <a:lnTo>
                  <a:pt x="2141" y="570"/>
                </a:lnTo>
                <a:lnTo>
                  <a:pt x="2150" y="542"/>
                </a:lnTo>
                <a:lnTo>
                  <a:pt x="2159" y="524"/>
                </a:lnTo>
                <a:lnTo>
                  <a:pt x="2168" y="487"/>
                </a:lnTo>
                <a:lnTo>
                  <a:pt x="2168" y="469"/>
                </a:lnTo>
                <a:lnTo>
                  <a:pt x="2178" y="451"/>
                </a:lnTo>
                <a:lnTo>
                  <a:pt x="2187" y="405"/>
                </a:lnTo>
                <a:lnTo>
                  <a:pt x="2187" y="386"/>
                </a:lnTo>
                <a:lnTo>
                  <a:pt x="2196" y="368"/>
                </a:lnTo>
                <a:lnTo>
                  <a:pt x="2196" y="331"/>
                </a:lnTo>
                <a:lnTo>
                  <a:pt x="2196" y="313"/>
                </a:lnTo>
                <a:lnTo>
                  <a:pt x="2205" y="285"/>
                </a:lnTo>
                <a:lnTo>
                  <a:pt x="2205" y="248"/>
                </a:lnTo>
                <a:lnTo>
                  <a:pt x="2205" y="230"/>
                </a:lnTo>
                <a:lnTo>
                  <a:pt x="2205" y="0"/>
                </a:lnTo>
                <a:close/>
              </a:path>
            </a:pathLst>
          </a:cu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52760" y="1749600"/>
            <a:ext cx="3500640" cy="3692520"/>
          </a:xfrm>
          <a:custGeom>
            <a:avLst/>
            <a:gdLst/>
            <a:ahLst/>
            <a:rect l="l" t="t" r="r" b="b"/>
            <a:pathLst>
              <a:path w="2205" h="2326">
                <a:moveTo>
                  <a:pt x="790" y="0"/>
                </a:moveTo>
                <a:lnTo>
                  <a:pt x="809" y="0"/>
                </a:lnTo>
                <a:lnTo>
                  <a:pt x="864" y="0"/>
                </a:lnTo>
                <a:lnTo>
                  <a:pt x="882" y="0"/>
                </a:lnTo>
                <a:lnTo>
                  <a:pt x="910" y="0"/>
                </a:lnTo>
                <a:lnTo>
                  <a:pt x="965" y="9"/>
                </a:lnTo>
                <a:lnTo>
                  <a:pt x="983" y="9"/>
                </a:lnTo>
                <a:lnTo>
                  <a:pt x="1011" y="9"/>
                </a:lnTo>
                <a:lnTo>
                  <a:pt x="1057" y="18"/>
                </a:lnTo>
                <a:lnTo>
                  <a:pt x="1084" y="27"/>
                </a:lnTo>
                <a:lnTo>
                  <a:pt x="1103" y="27"/>
                </a:lnTo>
                <a:lnTo>
                  <a:pt x="1158" y="37"/>
                </a:lnTo>
                <a:lnTo>
                  <a:pt x="1176" y="46"/>
                </a:lnTo>
                <a:lnTo>
                  <a:pt x="1204" y="46"/>
                </a:lnTo>
                <a:lnTo>
                  <a:pt x="1222" y="55"/>
                </a:lnTo>
                <a:lnTo>
                  <a:pt x="1268" y="64"/>
                </a:lnTo>
                <a:lnTo>
                  <a:pt x="1296" y="73"/>
                </a:lnTo>
                <a:lnTo>
                  <a:pt x="1314" y="83"/>
                </a:lnTo>
                <a:lnTo>
                  <a:pt x="1360" y="101"/>
                </a:lnTo>
                <a:lnTo>
                  <a:pt x="1387" y="110"/>
                </a:lnTo>
                <a:lnTo>
                  <a:pt x="1406" y="119"/>
                </a:lnTo>
                <a:lnTo>
                  <a:pt x="1452" y="138"/>
                </a:lnTo>
                <a:lnTo>
                  <a:pt x="1470" y="147"/>
                </a:lnTo>
                <a:lnTo>
                  <a:pt x="1498" y="156"/>
                </a:lnTo>
                <a:lnTo>
                  <a:pt x="1534" y="175"/>
                </a:lnTo>
                <a:lnTo>
                  <a:pt x="1562" y="184"/>
                </a:lnTo>
                <a:lnTo>
                  <a:pt x="1580" y="193"/>
                </a:lnTo>
                <a:lnTo>
                  <a:pt x="1617" y="221"/>
                </a:lnTo>
                <a:lnTo>
                  <a:pt x="1636" y="230"/>
                </a:lnTo>
                <a:lnTo>
                  <a:pt x="1663" y="248"/>
                </a:lnTo>
                <a:lnTo>
                  <a:pt x="1700" y="266"/>
                </a:lnTo>
                <a:lnTo>
                  <a:pt x="1718" y="285"/>
                </a:lnTo>
                <a:lnTo>
                  <a:pt x="1737" y="294"/>
                </a:lnTo>
                <a:lnTo>
                  <a:pt x="1773" y="322"/>
                </a:lnTo>
                <a:lnTo>
                  <a:pt x="1792" y="340"/>
                </a:lnTo>
                <a:lnTo>
                  <a:pt x="1810" y="349"/>
                </a:lnTo>
                <a:lnTo>
                  <a:pt x="1838" y="386"/>
                </a:lnTo>
                <a:lnTo>
                  <a:pt x="1856" y="395"/>
                </a:lnTo>
                <a:lnTo>
                  <a:pt x="1874" y="414"/>
                </a:lnTo>
                <a:lnTo>
                  <a:pt x="1902" y="441"/>
                </a:lnTo>
                <a:lnTo>
                  <a:pt x="1920" y="460"/>
                </a:lnTo>
                <a:lnTo>
                  <a:pt x="1930" y="478"/>
                </a:lnTo>
                <a:lnTo>
                  <a:pt x="1948" y="496"/>
                </a:lnTo>
                <a:lnTo>
                  <a:pt x="1976" y="524"/>
                </a:lnTo>
                <a:lnTo>
                  <a:pt x="1985" y="542"/>
                </a:lnTo>
                <a:lnTo>
                  <a:pt x="2003" y="561"/>
                </a:lnTo>
                <a:lnTo>
                  <a:pt x="2021" y="597"/>
                </a:lnTo>
                <a:lnTo>
                  <a:pt x="2040" y="616"/>
                </a:lnTo>
                <a:lnTo>
                  <a:pt x="2049" y="634"/>
                </a:lnTo>
                <a:lnTo>
                  <a:pt x="2067" y="671"/>
                </a:lnTo>
                <a:lnTo>
                  <a:pt x="2077" y="689"/>
                </a:lnTo>
                <a:lnTo>
                  <a:pt x="2095" y="708"/>
                </a:lnTo>
                <a:lnTo>
                  <a:pt x="2113" y="744"/>
                </a:lnTo>
                <a:lnTo>
                  <a:pt x="2113" y="763"/>
                </a:lnTo>
                <a:lnTo>
                  <a:pt x="2123" y="781"/>
                </a:lnTo>
                <a:lnTo>
                  <a:pt x="2141" y="818"/>
                </a:lnTo>
                <a:lnTo>
                  <a:pt x="2150" y="836"/>
                </a:lnTo>
                <a:lnTo>
                  <a:pt x="2159" y="864"/>
                </a:lnTo>
                <a:lnTo>
                  <a:pt x="2168" y="901"/>
                </a:lnTo>
                <a:lnTo>
                  <a:pt x="2168" y="919"/>
                </a:lnTo>
                <a:lnTo>
                  <a:pt x="2178" y="938"/>
                </a:lnTo>
                <a:lnTo>
                  <a:pt x="2187" y="974"/>
                </a:lnTo>
                <a:lnTo>
                  <a:pt x="2187" y="1002"/>
                </a:lnTo>
                <a:lnTo>
                  <a:pt x="2196" y="1020"/>
                </a:lnTo>
                <a:lnTo>
                  <a:pt x="2196" y="1057"/>
                </a:lnTo>
                <a:lnTo>
                  <a:pt x="2196" y="1075"/>
                </a:lnTo>
                <a:lnTo>
                  <a:pt x="2205" y="1103"/>
                </a:lnTo>
                <a:lnTo>
                  <a:pt x="2205" y="1140"/>
                </a:lnTo>
                <a:lnTo>
                  <a:pt x="2205" y="1158"/>
                </a:lnTo>
                <a:lnTo>
                  <a:pt x="2205" y="1177"/>
                </a:lnTo>
                <a:lnTo>
                  <a:pt x="2205" y="1204"/>
                </a:lnTo>
                <a:lnTo>
                  <a:pt x="2196" y="1241"/>
                </a:lnTo>
                <a:lnTo>
                  <a:pt x="2196" y="1259"/>
                </a:lnTo>
                <a:lnTo>
                  <a:pt x="2196" y="1278"/>
                </a:lnTo>
                <a:lnTo>
                  <a:pt x="2187" y="1324"/>
                </a:lnTo>
                <a:lnTo>
                  <a:pt x="2187" y="1342"/>
                </a:lnTo>
                <a:lnTo>
                  <a:pt x="2178" y="1360"/>
                </a:lnTo>
                <a:lnTo>
                  <a:pt x="2168" y="1406"/>
                </a:lnTo>
                <a:lnTo>
                  <a:pt x="2168" y="1425"/>
                </a:lnTo>
                <a:lnTo>
                  <a:pt x="2159" y="1443"/>
                </a:lnTo>
                <a:lnTo>
                  <a:pt x="2150" y="1480"/>
                </a:lnTo>
                <a:lnTo>
                  <a:pt x="2141" y="1498"/>
                </a:lnTo>
                <a:lnTo>
                  <a:pt x="2132" y="1517"/>
                </a:lnTo>
                <a:lnTo>
                  <a:pt x="2113" y="1563"/>
                </a:lnTo>
                <a:lnTo>
                  <a:pt x="2113" y="1581"/>
                </a:lnTo>
                <a:lnTo>
                  <a:pt x="2104" y="1599"/>
                </a:lnTo>
                <a:lnTo>
                  <a:pt x="2077" y="1636"/>
                </a:lnTo>
                <a:lnTo>
                  <a:pt x="2067" y="1655"/>
                </a:lnTo>
                <a:lnTo>
                  <a:pt x="2058" y="1673"/>
                </a:lnTo>
                <a:lnTo>
                  <a:pt x="2040" y="1710"/>
                </a:lnTo>
                <a:lnTo>
                  <a:pt x="2021" y="1728"/>
                </a:lnTo>
                <a:lnTo>
                  <a:pt x="2012" y="1746"/>
                </a:lnTo>
                <a:lnTo>
                  <a:pt x="1985" y="1774"/>
                </a:lnTo>
                <a:lnTo>
                  <a:pt x="1976" y="1792"/>
                </a:lnTo>
                <a:lnTo>
                  <a:pt x="1957" y="1811"/>
                </a:lnTo>
                <a:lnTo>
                  <a:pt x="1948" y="1829"/>
                </a:lnTo>
                <a:lnTo>
                  <a:pt x="1920" y="1857"/>
                </a:lnTo>
                <a:lnTo>
                  <a:pt x="1902" y="1875"/>
                </a:lnTo>
                <a:lnTo>
                  <a:pt x="1884" y="1894"/>
                </a:lnTo>
                <a:lnTo>
                  <a:pt x="1856" y="1921"/>
                </a:lnTo>
                <a:lnTo>
                  <a:pt x="1838" y="1939"/>
                </a:lnTo>
                <a:lnTo>
                  <a:pt x="1819" y="1958"/>
                </a:lnTo>
                <a:lnTo>
                  <a:pt x="1792" y="1985"/>
                </a:lnTo>
                <a:lnTo>
                  <a:pt x="1773" y="1995"/>
                </a:lnTo>
                <a:lnTo>
                  <a:pt x="1755" y="2013"/>
                </a:lnTo>
                <a:lnTo>
                  <a:pt x="1718" y="2041"/>
                </a:lnTo>
                <a:lnTo>
                  <a:pt x="1700" y="2050"/>
                </a:lnTo>
                <a:lnTo>
                  <a:pt x="1681" y="2068"/>
                </a:lnTo>
                <a:lnTo>
                  <a:pt x="1636" y="2087"/>
                </a:lnTo>
                <a:lnTo>
                  <a:pt x="1617" y="2105"/>
                </a:lnTo>
                <a:lnTo>
                  <a:pt x="1599" y="2114"/>
                </a:lnTo>
                <a:lnTo>
                  <a:pt x="1562" y="2133"/>
                </a:lnTo>
                <a:lnTo>
                  <a:pt x="1534" y="2151"/>
                </a:lnTo>
                <a:lnTo>
                  <a:pt x="1516" y="2160"/>
                </a:lnTo>
                <a:lnTo>
                  <a:pt x="1470" y="2178"/>
                </a:lnTo>
                <a:lnTo>
                  <a:pt x="1452" y="2188"/>
                </a:lnTo>
                <a:lnTo>
                  <a:pt x="1433" y="2197"/>
                </a:lnTo>
                <a:lnTo>
                  <a:pt x="1387" y="2215"/>
                </a:lnTo>
                <a:lnTo>
                  <a:pt x="1360" y="2224"/>
                </a:lnTo>
                <a:lnTo>
                  <a:pt x="1341" y="2234"/>
                </a:lnTo>
                <a:lnTo>
                  <a:pt x="1296" y="2243"/>
                </a:lnTo>
                <a:lnTo>
                  <a:pt x="1268" y="2252"/>
                </a:lnTo>
                <a:lnTo>
                  <a:pt x="1250" y="2261"/>
                </a:lnTo>
                <a:lnTo>
                  <a:pt x="1222" y="2270"/>
                </a:lnTo>
                <a:lnTo>
                  <a:pt x="1176" y="2280"/>
                </a:lnTo>
                <a:lnTo>
                  <a:pt x="1158" y="2280"/>
                </a:lnTo>
                <a:lnTo>
                  <a:pt x="1130" y="2289"/>
                </a:lnTo>
                <a:lnTo>
                  <a:pt x="1084" y="2298"/>
                </a:lnTo>
                <a:lnTo>
                  <a:pt x="1057" y="2298"/>
                </a:lnTo>
                <a:lnTo>
                  <a:pt x="1029" y="2307"/>
                </a:lnTo>
                <a:lnTo>
                  <a:pt x="983" y="2316"/>
                </a:lnTo>
                <a:lnTo>
                  <a:pt x="965" y="2316"/>
                </a:lnTo>
                <a:lnTo>
                  <a:pt x="937" y="2316"/>
                </a:lnTo>
                <a:lnTo>
                  <a:pt x="882" y="2316"/>
                </a:lnTo>
                <a:lnTo>
                  <a:pt x="864" y="2326"/>
                </a:lnTo>
                <a:lnTo>
                  <a:pt x="836" y="2326"/>
                </a:lnTo>
                <a:lnTo>
                  <a:pt x="790" y="2326"/>
                </a:lnTo>
                <a:lnTo>
                  <a:pt x="763" y="2326"/>
                </a:lnTo>
                <a:lnTo>
                  <a:pt x="735" y="2326"/>
                </a:lnTo>
                <a:lnTo>
                  <a:pt x="689" y="2316"/>
                </a:lnTo>
                <a:lnTo>
                  <a:pt x="662" y="2316"/>
                </a:lnTo>
                <a:lnTo>
                  <a:pt x="643" y="2316"/>
                </a:lnTo>
                <a:lnTo>
                  <a:pt x="588" y="2316"/>
                </a:lnTo>
                <a:lnTo>
                  <a:pt x="570" y="2307"/>
                </a:lnTo>
                <a:lnTo>
                  <a:pt x="542" y="2307"/>
                </a:lnTo>
                <a:lnTo>
                  <a:pt x="496" y="2298"/>
                </a:lnTo>
                <a:lnTo>
                  <a:pt x="469" y="2298"/>
                </a:lnTo>
                <a:lnTo>
                  <a:pt x="441" y="2289"/>
                </a:lnTo>
                <a:lnTo>
                  <a:pt x="395" y="2280"/>
                </a:lnTo>
                <a:lnTo>
                  <a:pt x="377" y="2270"/>
                </a:lnTo>
                <a:lnTo>
                  <a:pt x="349" y="2270"/>
                </a:lnTo>
                <a:lnTo>
                  <a:pt x="331" y="2261"/>
                </a:lnTo>
                <a:lnTo>
                  <a:pt x="285" y="2243"/>
                </a:lnTo>
                <a:lnTo>
                  <a:pt x="257" y="2243"/>
                </a:lnTo>
                <a:lnTo>
                  <a:pt x="239" y="2234"/>
                </a:lnTo>
                <a:lnTo>
                  <a:pt x="193" y="2215"/>
                </a:lnTo>
                <a:lnTo>
                  <a:pt x="165" y="2206"/>
                </a:lnTo>
                <a:lnTo>
                  <a:pt x="147" y="2197"/>
                </a:lnTo>
                <a:lnTo>
                  <a:pt x="101" y="2178"/>
                </a:lnTo>
                <a:lnTo>
                  <a:pt x="83" y="2169"/>
                </a:lnTo>
                <a:lnTo>
                  <a:pt x="55" y="2160"/>
                </a:lnTo>
                <a:lnTo>
                  <a:pt x="18" y="2133"/>
                </a:lnTo>
                <a:lnTo>
                  <a:pt x="0" y="2123"/>
                </a:lnTo>
                <a:lnTo>
                  <a:pt x="790" y="1158"/>
                </a:lnTo>
                <a:lnTo>
                  <a:pt x="79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39560" y="3747960"/>
            <a:ext cx="831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"/>
              </a:rPr>
              <a:t>40.6%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84080" y="2595600"/>
            <a:ext cx="831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Arial"/>
              </a:rPr>
              <a:t>59.4%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825560"/>
            <a:ext cx="146160" cy="1461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91440" y="1752480"/>
            <a:ext cx="116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2 p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2190600"/>
            <a:ext cx="1461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91440" y="2117880"/>
            <a:ext cx="109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2 p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04920"/>
            <a:ext cx="76201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oring Opport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 u="sng">
                <a:solidFill>
                  <a:srgbClr val="a50021"/>
                </a:solidFill>
                <a:uFillTx/>
                <a:latin typeface="Arial"/>
              </a:rPr>
              <a:t>&lt;</a:t>
            </a:r>
            <a:r>
              <a:rPr b="1" lang="en-US" sz="3700" spc="-1" strike="noStrike">
                <a:solidFill>
                  <a:srgbClr val="a50021"/>
                </a:solidFill>
                <a:latin typeface="Arial"/>
              </a:rPr>
              <a:t> 2 Passe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1351080"/>
            <a:ext cx="8686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6T19:59:41Z</dcterms:created>
  <dc:creator>Prefrerred User</dc:creator>
  <dc:description/>
  <dc:language>en-US</dc:language>
  <cp:lastModifiedBy> </cp:lastModifiedBy>
  <dcterms:modified xsi:type="dcterms:W3CDTF">2005-01-05T11:39:22Z</dcterms:modified>
  <cp:revision>158</cp:revision>
  <dc:subject/>
  <dc:title>Quantitative Relation Between Serum Cholesterol Levels and Coronary Events</dc:title>
</cp:coreProperties>
</file>